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73.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 id="330" r:id="rId95"/>
    <p:sldId id="331" r:id="rId96"/>
    <p:sldId id="332" r:id="rId97"/>
    <p:sldId id="333" r:id="rId98"/>
    <p:sldId id="334"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slide" Target="slides/slide75.xml"/><Relationship Id="rId96" Type="http://schemas.openxmlformats.org/officeDocument/2006/relationships/slide" Target="slides/slide76.xml"/><Relationship Id="rId97" Type="http://schemas.openxmlformats.org/officeDocument/2006/relationships/slide" Target="slides/slide77.xml"/><Relationship Id="rId98" Type="http://schemas.openxmlformats.org/officeDocument/2006/relationships/slide" Target="slides/slide78.xml"/><Relationship Id="rId99" Type="http://schemas.openxmlformats.org/officeDocument/2006/relationships/slide" Target="slides/slide79.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3CE74-D5F2-4938-854B-1DE7804C0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hyperlink" Target="http://en.wikipedia.org/wiki/Glucocorticoid" TargetMode="External"/><Relationship Id="rId2" Type="http://schemas.openxmlformats.org/officeDocument/2006/relationships/hyperlink" Target="http://en.wikipedia.org/wiki/Steroid" TargetMode="External"/><Relationship Id="rId3" Type="http://schemas.openxmlformats.org/officeDocument/2006/relationships/hyperlink" Target="http://en.wikipedia.org/wiki/Anti-inflammatory" TargetMode="External"/><Relationship Id="rId4" Type="http://schemas.openxmlformats.org/officeDocument/2006/relationships/hyperlink" Target="http://en.wikipedia.org/wiki/Immunosuppressive_drug" TargetMode="External"/><Relationship Id="rId5" Type="http://schemas.openxmlformats.org/officeDocument/2006/relationships/hyperlink" Target="http://en.wikipedia.org/wiki/Hormone" TargetMode="External"/><Relationship Id="rId6" Type="http://schemas.openxmlformats.org/officeDocument/2006/relationships/hyperlink" Target="http://en.wikipedia.org/wiki/Cortisol" TargetMode="External"/><Relationship Id="rId7" Type="http://schemas.openxmlformats.org/officeDocument/2006/relationships/hyperlink" Target="http://en.wikipedia.org/wiki/Prednisone" TargetMode="External"/><Relationship Id="rId8" Type="http://schemas.openxmlformats.org/officeDocument/2006/relationships/hyperlink" Target="http://en.wikipedia.org/wiki/Inflammation" TargetMode="External"/><Relationship Id="rId9" Type="http://schemas.openxmlformats.org/officeDocument/2006/relationships/hyperlink" Target="http://en.wikipedia.org/wiki/Autoimmune_disease" TargetMode="External"/><Relationship Id="rId10" Type="http://schemas.openxmlformats.org/officeDocument/2006/relationships/hyperlink" Target="http://en.wikipedia.org/wiki/Rheumatoid_arthritis" TargetMode="External"/><Relationship Id="rId11" Type="http://schemas.openxmlformats.org/officeDocument/2006/relationships/slide" Target="../slides/slide73.xml"/><Relationship Id="rId1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patotoxicity in the form of acute liver failure can occur when there is an overdose of paracetamol. When patient take larger than prescribed doses of paracetamol because their pain is not controlled, and exceed 8-10g / day, there is a potential for developing acute liver failure. Intentional overdose is known to be the leading cause of acute liver failure in the US, UK and Australia. When there is an overdose, the elimination pathways in the liver become saturated and this results in elevated levels of a toxic metabolite which cause cellular necrosis.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idote for acute paracetamol poisoning is the administration of N-Acetylcysteine (NAC) which has been available since 1974. it is most effective when administered within 8-10 hours of paracetamol overdose.  Similarly renal necrosis can occur with an overdose of paracetamol due to them same toxic mechanism as in the liver.</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Steroidal Anti-Inflammatory Medicines – referred to as such by the World Health Organization. It is also generally known as Non-steroidal anti-inflammatory drugs (NSAID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infusion of the bark of the willow tree was used to treat fever and joint pains – referred to as rheumatism. With the advent of advances in organic chemistry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salicylic acid was isolated from the willow bark. Salicylic acid was found to be irritant to the gastric mucosa, so acetylsalicylic acid was synthesized. This became known as aspirin, late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Aspirin soon became widely used for the treatment of pain and fever, till the availability of other drugs with similar mechanism of action. Aspirin remains the original NSAIM. It continues to be used in many parts of the world, particularly in countries with limited resources. The other use for aspirin currently is in the treatment and prophylaxis of patients with ischaemic heart disease. For this indication it is used in a low dose.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ides aspirin there are now available a diverse group of compounds that have a similar mechanism of action to aspirin – and with less side effects. The mechanism of action of aspirin and other NSAIDs was discovered in the 1960s by Prof Vane of the UK. He received a nobel prize for his ground breaking work in this areas.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 Steroidal anti inflammatory drugs are a group of drugs that are widely used to treat pain and inflammation. They act through inhibition of the two isoforms of the enzyme cyclooxygenase – COX-1 and COX-2. Those drugs that are not selective and act on both the COX-1 and COX2 are referred to as non-selective NSAIDs – The commonly available ns-NSAIDs are diclofenace, ibuprofen, mefenamic acid, naproxen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we have known that there are two isoforms of the enzyme cyclooxygenase. The discovery of these two isoforms have helped to understand the adverse effects of both NSAIDs and Coxibs. In order to understand the mechanism of action of these drugs in relieving pain and inflammation we need to understand some pathophysiology of pain.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ell wall injury, there is a release of membrane phospholipids. The enzyme phospholipase A2 converts phospholipids to arachidonic acid. This is the key to the production of a large number of important inflammatory mediators. Both non-selective and selective COX-2 inhibitors can therefore reduce the amount of prostaglandins being produced, with PGE2 being the most prominent.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arachidonic cascade has another pathway that is facilitated by the lipooxygenase enzyme. This causes a production of leukotrienes which are also inflammatory mediators and can continue to provide a trigger for nociceptio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SAIDs and COXIBs inhibit only the cyclooxygenase enzyme and have no effect on the lipooxygenase pathways. Leukotrienes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pirin is the first NSAID that was used more than one hundred years ago. Due to the severe gastrointestinal effects of aspirin when used for pain relief, it is no longer used for pain relief. Instead low dose aspirin (75 -100 mg/day) is used to prevent thrombosis in patients at risk of cardiovascular events from thrombosis. It acts as an anti-platelet agent.  Ibuprofen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ministered orally aspirin, NSAIMs and Coxibs are well absorbed and reach therapeutic levels between 30 to 60 minute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cations. Both the non-selective NSAIMS and COX-2 inibitors have the same efficacy in postoperative analgesia. It is often used as the sole analgesic for day surgery when patients are not sent home on opioids because of the worry about nausea and vomiting. It is also used along with opioids for major surgery. Musculo-skeletal pain – e.g. back pain, joints, muscle sprains et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teoarthriti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umatoid arthritis </a:t>
            </a:r>
            <a:r>
              <a:rPr b="1" lang="en-US" sz="1200" spc="-1" strike="noStrike">
                <a:solidFill>
                  <a:srgbClr val="000000"/>
                </a:solidFill>
                <a:latin typeface="Calibri"/>
              </a:rPr>
              <a:t>Not indicated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ecture will discuss the clinical pharmacology of analgesic drugs which are :  Non-steroidal anti-inflammatory drugs – commonly referred to as NSAIDS, the specific cyclooxygenase-2 inhibitors, opioids, which are commonly available, ketamine, , Drugs used for neuropathic pain , local anaesthetic agents and steroids.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gesic properties of the opioid alkaloid (opium) , derived from the dried milky juice of the opium flower has been known for centuries. They consisted of a variety of alkoloids, hence dosing was not accurate, which led to either under or overdosing.  With the isolation of the single opioid, morphine by a German pharmacist, Serturner in 1813 and the introduction of the glass syringe in 1844, morphine has been the mainstay for the management of severe pain.   In the last 200 years since morphine was isolated, there has been numerous drugs that have been synthesized, which have properties similar to that of morphine. All these drugs which have actions similar to that of morphine are referred to as “opioids”  </a:t>
            </a:r>
            <a:endParaRPr b="0" lang="en-US"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E5C6-4A5D-474D-8345-F74DBF3DC38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 be categorized into three groups. Those drugs which are derived from the opium poppy (naturally occurring) are morphine and codeine. Semi-synthetic drugs are hydromorphone, oxycodone, diacetylmorphine which is heroin, and naloxone which is an antogonist. The fully synthetic drugs are pethidine also known as meperidine, tramadol, nalbuphine, methadone, pentazocine, fentanyl, alfentanil, sufentanil and remifentanil.   The last three drugs are generally used exclusively by Anaesthesiologists.    The opioids in the World Health Organization’s essential drug list – I.e. Drugs that should be available in all countries – are morphine, codeine, pethidine and oxycodone. Tramadol is placed both in the opioid category as well as in “other analgesic category” as it has a dual mechanism of action. Which will be described in a later slid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re usually classified into: 1) Strong opioids – i.e. potent opioids – such as morphine, oxycodone, pethidine and fentanyl. These drugs are used for severe pain, particularly for severe acute pain and cancer pain management. There is no alternative to opioids in the management of severe acute pain.    2)  Weak opioids such as codeine and tramadol – used for moderate pain. They have a ceiling effect. The dose cannot be increased beyond a certain dose to provide pain relief. If pain is not relieved by the maximum allowable dose of a weak opioid, then the patients should be changed to strong opioid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shows the analgesic ladder –  Also referred to as the WHO analgesic ladder because of the three steps that are highlighted. This is a guide to the management of acute pain. Step 1 drugs are those that are used for mild pain, while the weak opioids are used for moderate pain (step 2) and strong opioids such as morphine are used for severe pain (Step 3). You will also notice that other drugs such as paracetamol and NSAIDs are also used in addition to the opioids for the management of pain. This is because the two drugs have different mechanism of action and pain relief is improved or enhanced when both drugs are used.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opioids such as morphine have been used for centuries, it was only in the 1970s that the opioid receptors in the brain and spinal cord were discovered.  Opioid receptors are complex proteins that are embedded in the cell membrane of neurons in many parts of the central nervous system. There are three types of opioid receptors –</a:t>
            </a:r>
            <a:r>
              <a:rPr b="0" lang="el-GR" sz="1200" spc="-1" strike="noStrike">
                <a:solidFill>
                  <a:srgbClr val="000000"/>
                </a:solidFill>
                <a:latin typeface="Calibri"/>
              </a:rPr>
              <a:t>μ</a:t>
            </a:r>
            <a:r>
              <a:rPr b="0" lang="en-US" sz="1200" spc="-1" strike="noStrike">
                <a:solidFill>
                  <a:srgbClr val="000000"/>
                </a:solidFill>
                <a:latin typeface="Calibri"/>
              </a:rPr>
              <a:t>,  </a:t>
            </a:r>
            <a:r>
              <a:rPr b="0" lang="el-GR" sz="1200" spc="-1" strike="noStrike">
                <a:solidFill>
                  <a:srgbClr val="000000"/>
                </a:solidFill>
                <a:latin typeface="Calibri"/>
              </a:rPr>
              <a:t>δ</a:t>
            </a:r>
            <a:r>
              <a:rPr b="0" lang="en-US" sz="1200" spc="-1" strike="noStrike">
                <a:solidFill>
                  <a:srgbClr val="000000"/>
                </a:solidFill>
                <a:latin typeface="Calibri"/>
              </a:rPr>
              <a:t>, </a:t>
            </a:r>
            <a:r>
              <a:rPr b="0" lang="el-GR" sz="1200" spc="-1" strike="noStrike">
                <a:solidFill>
                  <a:srgbClr val="000000"/>
                </a:solidFill>
                <a:latin typeface="Calibri"/>
              </a:rPr>
              <a:t>κ</a:t>
            </a:r>
            <a:r>
              <a:rPr b="0" lang="en-US" sz="1200" spc="-1" strike="noStrike">
                <a:solidFill>
                  <a:srgbClr val="000000"/>
                </a:solidFill>
                <a:latin typeface="Calibri"/>
              </a:rPr>
              <a:t> – it is the </a:t>
            </a:r>
            <a:r>
              <a:rPr b="0" lang="el-GR" sz="1200" spc="-1" strike="noStrike">
                <a:solidFill>
                  <a:srgbClr val="000000"/>
                </a:solidFill>
                <a:latin typeface="Calibri"/>
              </a:rPr>
              <a:t>μ</a:t>
            </a:r>
            <a:r>
              <a:rPr b="0" lang="en-US" sz="1200" spc="-1" strike="noStrike">
                <a:solidFill>
                  <a:srgbClr val="000000"/>
                </a:solidFill>
                <a:latin typeface="Calibri"/>
              </a:rPr>
              <a:t> receptor that is important as most opioids act on this receptor to exert their action.  Opioid receptors are found in many parts of the brain. In the cingulate cortex, thalamus, periacqueductal gray in the midbrain and in the dorsal horn of the spinal cord. </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ct by binding to opioid receptors in the various areas of the central nervous system. They mainly bind to the </a:t>
            </a:r>
            <a:r>
              <a:rPr b="0" lang="el-GR" sz="1200" spc="-1" strike="noStrike">
                <a:solidFill>
                  <a:srgbClr val="000000"/>
                </a:solidFill>
                <a:latin typeface="Calibri"/>
              </a:rPr>
              <a:t>μ</a:t>
            </a:r>
            <a:r>
              <a:rPr b="0" lang="en-US" sz="1200" spc="-1" strike="noStrike">
                <a:solidFill>
                  <a:srgbClr val="000000"/>
                </a:solidFill>
                <a:latin typeface="Calibri"/>
              </a:rPr>
              <a:t> opioid receptor. By binding to the receptor they activate a process of complex intracellular signals, which lead to reduction in the excitability of these neurons in the path pathway. This reduction in excitability leads to inhibition of pain signals in this pathway and eventually resulting in reduction in the perception of pain by the individual. Those opioids which have this action are known as agonists at the opioid receptor. Those drugs which bind to opioid receptors but have no action are known as antagonists at the </a:t>
            </a:r>
            <a:r>
              <a:rPr b="0" lang="el-GR" sz="1200" spc="-1" strike="noStrike">
                <a:solidFill>
                  <a:srgbClr val="000000"/>
                </a:solidFill>
                <a:latin typeface="Calibri"/>
              </a:rPr>
              <a:t>μ</a:t>
            </a:r>
            <a:r>
              <a:rPr b="0" lang="en-US" sz="1200" spc="-1" strike="noStrike">
                <a:solidFill>
                  <a:srgbClr val="000000"/>
                </a:solidFill>
                <a:latin typeface="Calibri"/>
              </a:rPr>
              <a:t> receptor. Naloxone is an antagonist and reduce the actions of opioids at the </a:t>
            </a:r>
            <a:r>
              <a:rPr b="0" lang="el-GR" sz="1200" spc="-1" strike="noStrike">
                <a:solidFill>
                  <a:srgbClr val="000000"/>
                </a:solidFill>
                <a:latin typeface="Calibri"/>
              </a:rPr>
              <a:t>μ</a:t>
            </a:r>
            <a:r>
              <a:rPr b="0" lang="en-US" sz="1200" spc="-1" strike="noStrike">
                <a:solidFill>
                  <a:srgbClr val="000000"/>
                </a:solidFill>
                <a:latin typeface="Calibri"/>
              </a:rPr>
              <a:t> receptor. Opioid receptors which are on the pre-synaptic part of the transmission, can reduce the release of neurotransmitters such as glutamate.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e be administered by several routes. The can be administered orally, intravenously, intramuscularly, subcutaneously, transcutaneous route or per rectum. They also exert their action when administered directly into the epidural, intrathecal or intraventricular spaces. The onset of action, time to peak action and duration of action depends on the route and dose of the drug.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the most widely used opioid for the management of severe pain. It can be given by all the different routes that were described in the previous slide. It is well absorbed when given by the oral route and has a bioavailability of 30-35% Bioavailability is a term used for the amount of drug that is available in the systemic circulation when a drug is administered by the oral route. I.e. If 30 mg of morphine is given orally, then 10 mg is found in the circulation and available for pain control. The reason for this low bioavailability of morphine when given orally, is due to first pass metabolism that takes place in the liver when the drug is absorbed. All drugs that are absorbed by the gastrointestinal tract pass the liver by the portal circulation. Understanding the bioavailability of the drug is useful when you need to convert the parenteral dose of a drug to the oral route. For example, when 10 mg of morphine can control severe pain, then a patient will need 30 mg of morphine by the oral rou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ussion on clinical pharmacology will include the 1) mechanism of action of the drug- Knowledge of the mechanism of action of drugs is important particularly when you want to combine two or more analgesic drugs. 2) Routes of administration, how is the drug absorbed and eliminated. 3) What are the main indications for the use of this class of drugs and the common used dosages for adults and children. 4) what are the side effects that you can expect – the common side effects will be highlighted and a mention made of the uncommon ones. 5) If any special precaution that is needed.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morphine is the mainstay in the management of severe cancer pain. It is available as the aqueous or liquid morphine that is prepared by local hospital pharmacies from the morphine sulphate / morphine hydrochloride powder. The concentration that is prepared is usually 1-2 mg / mL. However, in some situations when large doses of morphine is required, the pharmacy can prepare a more concentrated preparation. Some flavour or sweetening agent is often added to liquid morphine to make it more palatable. It is also referred to as immediate release morphine as the onset of action is within 20-30 min and the duration is four hours. In some countries, because the shelf life of liquid morphine is limited, immediate release morphine tablets are available. Which has the same action as liquid morphine. For continuous control of cancer pain, these have to be given every four hours, unless there is renal or liver impairment when the dose intervals can be increased.    Sustained Release Morphine Tablets are also available in some countries. They are more expensive and should only be started when the dose of morphine needed has been stabilized. They are an alternative to immediate release morphine for better compliance to medication.</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eral morphine is available as 10 mg / I ml ampoule. It can be administered either intramuscularly, subcutaneously or intravenously. Many centres in the world are administrating morphine subcutaneously rather than intramuscularly (IM). IM injections are painful and it seems paradoxical that painful injections are administered to relieve pain. When rapid pain relief is needed for severe pain, the intravenous route is preferred as one administers the opioid straight into the systemic circulation and one does not have to wait for systemic absorption from the subcutaneous site. Morphine is given is small dose (1 – 2 mg boluses) till pain relief is achieved.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metabolic pathway of metabolism is conjugation with glucuronic acid in hepatic and extra-hepatic sites mainly in the kidney. Two main metabolites are produced. Morphine 3 glucuronide and morphine -6 glucuronide – the second metabolite has analgesic properties. Morphine should be used cautiously in patients with liver and renal impairment. The dose should be reduced and the dosing intervals should be increased.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eine is a weak opioid that is in the WHO essential drug list. (17</a:t>
            </a:r>
            <a:r>
              <a:rPr b="0" lang="en-US" sz="1200" spc="-1" strike="noStrike" baseline="30000">
                <a:solidFill>
                  <a:srgbClr val="000000"/>
                </a:solidFill>
                <a:latin typeface="Calibri"/>
              </a:rPr>
              <a:t>th</a:t>
            </a:r>
            <a:r>
              <a:rPr b="0" lang="en-US" sz="1200" spc="-1" strike="noStrike">
                <a:solidFill>
                  <a:srgbClr val="000000"/>
                </a:solidFill>
                <a:latin typeface="Calibri"/>
              </a:rPr>
              <a:t> edition – March 2011). The oral tablet is available as 15 mg and 30 mg. It is well absorbed when given orally and there is no first pass metabolism. About 10% of codeine is converted to morphine and that may account for it analgesic action. It is found in cough mixtures as it has anti-tussive activity  and is also combined with paracetamol to increase the analgesic efficacy of paracetamol. It causes minimal sedation, nausea, vomiting and constipation. The expert committee on drugs in WHO will be reviewing its comparative efficacy and safety and is considering deleting it in the next meeting.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not on the WHO essential drug list. However, it is probably available in many countries as the generic tramadol has been available for many years. It has a dual mechanism of action. It has 1) weak opioid binding properties and 2) it inhibits the re-uptake of serotonin and noradrenaline ( neurotransmitters) at the end of the descending inhibitory pathways – which synapse with the neurones in the  path conducting pathway at the dorsal horn of the spinal cord. It is available as an oral capsule and injection 50 mg / ml in a 2 ml ampoule. It is not placed in the same schedule as the strong opioids and as such is more readily available than morphine.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well absorbed when given by the oral route. It time to effect is around 30 minutes and the duration of action is around 6 hours. Sedation is minimal with tramadol. It can cause nausea, vomiting and dizziness. The abuse potential with tramadol is minimal. Although it is a weak opioid, because it has a dual mechanism of action, its analgesic efficacy is superior to codeine.</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do not cause any organ toxicity. However, they are associated with side effects. The gastrointestinal side effects are nausea and vomiting. Opioids stimulate the chemo-receptor trigger zone which is close to u receptors and cause the nausea and vomiting. Constipation is because of opioid action on the opioid receptors that are found in the gut. Sedation is possible which can cause respiratory depression when given in overdose. Sedation is therefore an early indication of overdose. Sedation may occur initially in patients who have been started on potent opioids for cancer pain. With continued use patients will become tolerant to the sedative actions of the opioid. </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s can develop tolerance when opioids are used for extended periods. The mechanism of development of tolerance is changes at the cellular level and is complex.  It is defined as a reduction of the pharmacological effect of an opioid. When the same dose produces a lesser effect or an increasing dose of the drug is needed to produce the same analgesic effect. However, one of the commonest reasons for a need to increasing doses of an opioid in cancer pain is due to advancing disease and not really tolerance.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also known as acetaminophen has both analgesic and antipyretic effects. That is it provides pain relief as well reduces the body temperature when a patient has fever. Despite numerous studies the mechanism of action is not clear. There have been controversy over its action is central or peripheral and whether it targets another type of cyclooxygenase enzy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ust learn to differentiate physical dependence to an opioid from addiction. When opioids are administered for an extended period, the body’s cells adapt to it. Any abrupt cessation of the opioid can lead to withdrawal symptoms. This is not the same as addiction. Addiction is a psychological craving for a drug, namely an opioid, for its euphoric action rather than for its pain relieving properties. An addict shows drug seeking behavior. Addiction is not a problem with opioids are used for acute pain management and the management of cancer pain. Concerns about addiction has one of the reasons for under-treatment of patient with acute and cancer pain. Addiction may occur when patients with non-cancer chronic pain are treated with potent opioids.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is one of the drugs that is on the WHO essential drug list. It is readily available in most countries of the world. It was </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can be administered via several routes. The main route is the intravenous route. A higher dose of 2 mg/ kg is used for the induction of anaesthesia. While a much lower dose is given for analgesia. It reduces the hyperalgesia produced by persistent c fibre input to the neurons of the dorsal horn of the spinal cord. The analgesic dose is 0.1 – 0.5 mg/ kg/hr. It can be given intramuscularly or subcutaneously. The onset of action is within 10- 15 min. It can be used by the oral route, the oral form is not readily available.  Oral ketamine is useful for chronic neuropathic pain. However the Oral ketamine is abused as a party drug by those who seek thrills. It is metabolized by the liver</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taken to reach maximum plasma concentration (T max) is 15 minutes when an effervescent solution is used – 30-60 minutes when other oral forms are used. It is up to 2-3 hours when suppositories are used (Bannwarth B &amp; Penhurcq F. Pharmacological basis for using paracetamol: pharmacokinetics and pharmacodynamic issues. Drugs. 2003; 63: 5-13.   Bioavailability when means how much of the drug is absorbed when given orally, ranges from 60-90% depending on the d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mination: Paracetamol is extensively metabolized in the liver by glucuroconjugation and sulfuroconjugation. This has implication in the use of paracteamol in patients with liver impairment or when overdose is taken.</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itryptyline is a tri-cyclic anti depressant drug that was used extensively by psychiatrists for many years. It increases the levels of noradrenaline and serotonin (neurotransmitters) both in the brain and spinal cord. It inhibits the reuptake of these neurotransmitters. With better and more specific drugs available for the management of depression, amitriptyline is now mainly used for the management of neuropathic pain and is a first line drug for this indication. An increase of neurotransmitters at the spinal level, influences the output of neurons at the dorsal horn of the spinal cord, thus reducing the transmission of noxious impulses at this level. Amitriptyline is usually started at low doses.  </a:t>
            </a: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F274E-3441-410E-95FB-31B550C308C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ell absorbed when administered by the oral route with a bioavailability of 30-60% . It takes about 2 weeks for it to be effective in controlling neuropathic pain  It is initially metabolized by the liver and excreted by the kidney.</a:t>
            </a: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7EA1-CC2B-47C7-95CA-540294D357D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common adverse reactions involve anticholinergic effects such as dry mouth, disturbances of visual accommodation, constipation and urinary retention. Also commonly seen are light headedness, drowsiness, increased perspiration and mild tremors as well as insomnia. Adverse reactions of the cardiovascular system may be much more serious; however, these occur less frequently. </a:t>
            </a: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90656-2A14-4AAB-8183-B77BE33CA43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amazepine is in the class of antiepileptic drugs. It was extensively used to control epilepsy, either as monotherapy or along with other antiepileptic drugs.  In pain management, it is the drug of choice for the management of pain of trigeminal neuralgia. Mechanism of action – it blocks the frequency and use of voltage-dependent (voltage gated) neuronal sodium channels, and therefore limits repetitive firing of action potentials. In patients with nerve injury, there is proliferation of sodium channels at the site of injury which fire spontaneous and cause neuropathic pain. Carbamazepine can reduce firing of these channels and are effective in controlling neuropathic pain.</a:t>
            </a: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74B74-3E22-4268-A642-CD1FA22479D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used as an analgesic drug for mild to moderate pain. 1) E.g. Tooth ache / teething pain in children, backpain, joint and muscle pain, headache, dysmenorrhoea 2) Relief of fever in adults and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ults – Up to 1g oral / rectal, every 6 hours ( 4g should not be exceeded /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ildren – Oral / rectal  20 mg / kg – every 6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xamethasone</a:t>
            </a:r>
            <a:r>
              <a:rPr b="0" lang="en-US" sz="1200" spc="-1" strike="noStrike">
                <a:solidFill>
                  <a:srgbClr val="000000"/>
                </a:solidFill>
                <a:latin typeface="Calibri"/>
              </a:rPr>
              <a:t> is a potent synthetic member of the </a:t>
            </a:r>
            <a:r>
              <a:rPr b="0" lang="en-US" sz="1200" spc="-1" strike="noStrike" u="sng">
                <a:solidFill>
                  <a:srgbClr val="009999"/>
                </a:solidFill>
                <a:uFillTx/>
                <a:latin typeface="Calibri"/>
                <a:hlinkClick r:id="rId1"/>
              </a:rPr>
              <a:t>glucocorticoid</a:t>
            </a:r>
            <a:r>
              <a:rPr b="0" lang="en-US" sz="1200" spc="-1" strike="noStrike">
                <a:solidFill>
                  <a:srgbClr val="000000"/>
                </a:solidFill>
                <a:latin typeface="Calibri"/>
              </a:rPr>
              <a:t> class of </a:t>
            </a:r>
            <a:r>
              <a:rPr b="0" lang="en-US" sz="1200" spc="-1" strike="noStrike" u="sng">
                <a:solidFill>
                  <a:srgbClr val="009999"/>
                </a:solidFill>
                <a:uFillTx/>
                <a:latin typeface="Calibri"/>
                <a:hlinkClick r:id="rId2"/>
              </a:rPr>
              <a:t>steroid</a:t>
            </a:r>
            <a:r>
              <a:rPr b="0" lang="en-US" sz="1200" spc="-1" strike="noStrike">
                <a:solidFill>
                  <a:srgbClr val="000000"/>
                </a:solidFill>
                <a:latin typeface="Calibri"/>
              </a:rPr>
              <a:t> drugs. It acts as an </a:t>
            </a:r>
            <a:r>
              <a:rPr b="0" lang="en-US" sz="1200" spc="-1" strike="noStrike" u="sng">
                <a:solidFill>
                  <a:srgbClr val="009999"/>
                </a:solidFill>
                <a:uFillTx/>
                <a:latin typeface="Calibri"/>
                <a:hlinkClick r:id="rId3"/>
              </a:rPr>
              <a:t>anti-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4"/>
              </a:rPr>
              <a:t>immunosuppressant</a:t>
            </a:r>
            <a:r>
              <a:rPr b="0" lang="en-US" sz="1200" spc="-1" strike="noStrike">
                <a:solidFill>
                  <a:srgbClr val="000000"/>
                </a:solidFill>
                <a:latin typeface="Calibri"/>
              </a:rPr>
              <a:t>. When taken orally, it is 26.6 times more potent than the naturally occurring </a:t>
            </a:r>
            <a:r>
              <a:rPr b="0" lang="en-US" sz="1200" spc="-1" strike="noStrike" u="sng">
                <a:solidFill>
                  <a:srgbClr val="009999"/>
                </a:solidFill>
                <a:uFillTx/>
                <a:latin typeface="Calibri"/>
                <a:hlinkClick r:id="rId5"/>
              </a:rPr>
              <a:t>hormone</a:t>
            </a:r>
            <a:r>
              <a:rPr b="0" lang="en-US" sz="1200" spc="-1" strike="noStrike">
                <a:solidFill>
                  <a:srgbClr val="000000"/>
                </a:solidFill>
                <a:latin typeface="Calibri"/>
              </a:rPr>
              <a:t> </a:t>
            </a:r>
            <a:r>
              <a:rPr b="0" lang="en-US" sz="1200" spc="-1" strike="noStrike" u="sng">
                <a:solidFill>
                  <a:srgbClr val="009999"/>
                </a:solidFill>
                <a:uFillTx/>
                <a:latin typeface="Calibri"/>
                <a:hlinkClick r:id="rId6"/>
              </a:rPr>
              <a:t>cortisol</a:t>
            </a:r>
            <a:r>
              <a:rPr b="0" lang="en-US" sz="1200" spc="-1" strike="noStrike">
                <a:solidFill>
                  <a:srgbClr val="000000"/>
                </a:solidFill>
                <a:latin typeface="Calibri"/>
              </a:rPr>
              <a:t> and 6.6 times more potent than </a:t>
            </a:r>
            <a:r>
              <a:rPr b="0" lang="en-US" sz="1200" spc="-1" strike="noStrike" u="sng">
                <a:solidFill>
                  <a:srgbClr val="009999"/>
                </a:solidFill>
                <a:uFillTx/>
                <a:latin typeface="Calibri"/>
                <a:hlinkClick r:id="rId7"/>
              </a:rPr>
              <a:t>prednisone</a:t>
            </a:r>
            <a:r>
              <a:rPr b="0" lang="en-US" sz="1200" spc="-1" strike="noStrike">
                <a:solidFill>
                  <a:srgbClr val="000000"/>
                </a:solidFill>
                <a:latin typeface="Calibri"/>
              </a:rPr>
              <a:t>. Dexamethasone is used to treat many </a:t>
            </a:r>
            <a:r>
              <a:rPr b="0" lang="en-US" sz="1200" spc="-1" strike="noStrike" u="sng">
                <a:solidFill>
                  <a:srgbClr val="009999"/>
                </a:solidFill>
                <a:uFillTx/>
                <a:latin typeface="Calibri"/>
                <a:hlinkClick r:id="rId8"/>
              </a:rPr>
              <a:t>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9"/>
              </a:rPr>
              <a:t>autoimmune</a:t>
            </a:r>
            <a:r>
              <a:rPr b="0" lang="en-US" sz="1200" spc="-1" strike="noStrike">
                <a:solidFill>
                  <a:srgbClr val="000000"/>
                </a:solidFill>
                <a:latin typeface="Calibri"/>
              </a:rPr>
              <a:t> conditions, such as </a:t>
            </a:r>
            <a:r>
              <a:rPr b="0" lang="en-US" sz="1200" spc="-1" strike="noStrike" u="sng">
                <a:solidFill>
                  <a:srgbClr val="009999"/>
                </a:solidFill>
                <a:uFillTx/>
                <a:latin typeface="Calibri"/>
                <a:hlinkClick r:id="rId10"/>
              </a:rPr>
              <a:t>rheumatoid arthritis</a:t>
            </a:r>
            <a:r>
              <a:rPr b="0" lang="en-US" sz="1200" spc="-1" strike="noStrike">
                <a:solidFill>
                  <a:srgbClr val="000000"/>
                </a:solidFill>
                <a:latin typeface="Calibri"/>
              </a:rPr>
              <a:t> and </a:t>
            </a: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C9E2-5164-4663-9468-D2AFB49E1B9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both a sensory and emotional experience. Hence the perception of pain (the severity or intensity) will depend not only on the degree of nociception but on multiple physical and psychological factors. There are several non-drug or non-pharmacological techniques which can be used to relieve pain. Usually in association with drugs. I.e. these treatments are complementary to pharmacological management. Physical therapy includes 1) providing rest to the injured area. Cold , compression and elevation of injuries can reduce oedema and relieve pain. 2) Surgery – incision and drainage of an abscess, fixing fractures to reduce movement of the bony fragments. 3) Acupuncture, massage and physiotherapy, ultrasound therapy may be used. A portable device called the transcutaneous electrical nerve stimulator ( a small portable device) if available can be used. These physical methods are complementary and in addition to pharmacotherapy.</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r of the unknown can raise anxiety levels and this can lead to an increase in pain perception. Sometimes all that is needed is a clear explanation to the patient and his family. They can be reassured that their pain will be addressed. This alone can help to reduce their anxiety about both postoperative pain or pain of any severe injury.  Counseling is particularly important when dealing with patients with cancer pain – Time should be taken to talk to both the patient and the famil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is well tolerated when taken orally and has no side effects when taken at therapeutic doses. It does not have any effect on the haematological system.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t metabolized in the liver and it must not be used in the presence of liver impairment (particularly in the presence of raised liver enzymes) . In patients with renal impairment, the dose of paracetamol should be reduced to 2-g/day. Do not exceed 4g/day in an adult or 125mg/kg/day i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27594-8A55-4BEB-9667-BD1186A7C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AFBC3-60BB-4873-91AD-16A899E02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F6A62E-DCEA-4931-8999-36611D4C89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E5DC22-AC54-4FD3-BE70-E29E583A31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72FBCC-06BE-4CE1-AD17-D6454C3D62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11C3E6-89C3-4A95-B863-6979E33F6A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3C388D-07A0-4209-8520-0B7BD6729A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DE12DB-D885-4FF9-A711-9DC7EE12D9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576187-B64A-4081-9C7C-FC467E4AD4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5F6E14-24A3-4857-8E4E-FB73E8ED00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8DA6CC-E235-4000-B2F1-CC4785334D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B1A51F-ED96-40E5-94E3-79CC10EA59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2F1D5-CFA7-4875-8D0F-65A7AA09B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7E1F75-AA1E-426D-9B38-85FA671569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96DA25-6F92-4A28-852F-3A9C46F88A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D1527B-2816-4106-B217-76A0B42E67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635440-CEEB-4923-A85D-7372EC8AE8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56BDEA-4B6C-47E2-B5AD-6A98F9A9B3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8EA9B4-E3AF-4645-A176-F467D0D838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82DCA2-C78F-4E8B-A8D0-8643ECD6B6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A4E283-B9DC-4809-9966-DEDC5C82CF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D3D17F-DC2A-4E44-89E7-834EFFA039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AEBD66-3023-471A-AAA7-2CDD5A8A55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6AA2B-4EE8-4C8B-BBFB-CE4044953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DF8C43-49DE-44D7-B100-318C8B44A2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22499C-F8EA-48DC-91C5-1FF87E3E8F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28E790-C6E6-4B90-9BC5-D35A4FEE21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65DA18-F209-4597-8F30-ADD0B7D567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EA0D4D-92A6-4BC5-83D6-90A3308696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CD2F63-E535-4FC8-A2CD-23C291B700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5A5EA8-1072-4FD9-962D-41A8741339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83A618-5BA6-4082-AB76-2F685C474C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3DE658-FE4C-45CB-BF64-A0C3E0B264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5BB410-488E-48AA-AEBD-35F8E014B1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FED881-6BEA-443A-B56D-F1F8670900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63C9B0-4FC4-4379-82F2-D92DF83B72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B56F57-FA10-453A-9EE6-7EB38E38EF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339ABD-23B9-41A1-98DC-8C69CBAA3D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39295D-F176-4692-9894-E62BCA8851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653A7C-C06E-4547-A7D7-0C63A07CEB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B5EAA7-BC1E-488B-AA8F-AFA4670374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A7026A-8D9C-49B3-847A-1E064D7FC0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E701DE-D89D-4A6E-9E24-CA77D80BB2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E68B25-A879-465D-A413-710097528A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F2CA46-C280-416D-BBDB-EB8FF1D2CF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A73958-CAF4-4FA1-863C-85905BE240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62704A-A759-4483-809F-95D02C06D3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48A58A-722A-4235-9573-C28E42CE9B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C8EBEB-07C1-4549-897C-C62CA69B00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E7720C7-E8F8-4AEF-A93B-AAC9BA3B7E6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9BA8C41-50B2-4585-AE32-3A714343BA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D38C93-17FF-4774-8FCA-A31700D049E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BB0DD2-A2E4-4584-9E3D-F4F90519C6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4162FE-DEA3-4F42-AC14-7524971A2D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1C2676-8573-4680-B723-067C53B517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A55458-30E9-48CE-BA4A-1A31693FE0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657CA5-FB52-4BDC-A803-BB5189F19B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172B78-F9E6-46DB-9330-3642A4BE76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2B2F18-863D-48A1-810A-0A7568BEDC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D4F4222-52B9-4B42-8550-F153520F033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D70AC06-31E3-416C-8404-43D5C322F86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8475F04-9C2F-4AB4-84FF-3ABC3266821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219113-6C9D-48C0-8EDB-19826767C8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BA7CF5-C144-4665-8C71-0784179EA6C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30CFC1-32D2-45C1-9C3F-55ED60F6B1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AA2687-DE0A-4831-9BE9-1973ACAD44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D5FC854-3C27-402A-B406-338756DD65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6A0DFE-E077-436F-958F-4F33B12C0A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813A72-9E6F-4490-BF0B-A497A81E1B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D5C69B-5B88-431E-A00C-DAC56A8A77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D9DB3F-1A4C-472F-BCF8-D33494E7D5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6995AE9-6C96-43D7-96F1-F41AA2EF96C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D542806-7740-4BEF-9E45-CB7DBE6A7E2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B12FE53-4223-405C-ACD6-1D4BF67A39D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135BDA-E5C8-4C68-A2A3-833B242621B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99B249A-745C-4FE0-9589-45D5CA439AA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C7ABF87-0B40-4C19-9B6B-002A206D742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08B95E-99F8-4B65-90F0-AADF3704D49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DE37BE1-96BF-429E-A766-B1EF0192CAB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FFA1B6-232C-4946-9387-2A47A3A3E9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A2AD0C-5300-4081-A35D-EFB2E3F803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F67162-244A-4460-8087-C286F9ED18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832241-4C5D-4B53-885B-DDBB94EFB0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4B080DB-DBD2-4B2B-8F03-0071C182474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ECA1448-718C-431D-9505-1B1D925273D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6CDFDB3-CC07-4068-8F47-5D038868D8C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ED845A5-CA0E-471F-BA47-D246824E01E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6B4F72D-ADE5-4E6A-8115-5EF4DEBEB3B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FCD387D-629F-43DC-99D1-E329BBDDED5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54D0220-F297-40B5-8358-75B2B972E8D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8F40A74-7C70-4422-8597-A12D0107AF8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8F541E-5827-4303-A5F7-670C2054766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DC7DE-4DD5-4A10-9B5E-68ABA01E2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98FD86A-C538-4505-9F7E-42BAE52531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346E2D9-0941-4616-BB4E-36C546C634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F125F8D-975A-49EC-AB50-F5E349730FF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7D6F8E8-9632-4C84-8EF0-48A9C7CABC4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AD70B3D-A43E-44CD-B94A-6D423C15AEF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089F677-5C18-474E-831E-AD803291777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17B658D-08CA-40C0-9093-A88CDA62BF5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4F245FA-11B8-4FD0-BA13-883F61496C7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888AD75-EFFE-45FD-B8DF-6EE2E15F904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67316A9-2D71-4869-9566-970CF310586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5521C5E-E899-4DE0-AEB9-59D79E9FFF7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F9B517E-6DDF-4BA8-B2C5-F698EA1597E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F1C81D6-A5B2-40A9-8326-9D2BECF69E4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B8592D7-27CD-48F6-988B-17077D7834C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070FCC3-FD71-42CB-A2D3-1D0AABD9E9D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BFD70BB-8EC0-446C-8D50-394AD238B1A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72C6DF9-1838-4590-B289-C2A29E155C6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BA20F-F1BB-4A62-A159-BBE709A4E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CA2A5-40A9-4295-8F36-1E6876966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3D20F7-4400-4360-8F82-A0722E9BB8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F9A90-B1C9-4F6D-8AA0-B13DC1C4F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1C78E-40D0-41D6-BDBC-5A74D86D0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1DC98-ADF4-47DB-B0B5-B20BE0CD8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9EBA5-B18F-48E7-8E70-A0129D125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D1152-E9CA-4511-A71B-720C19CB7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DF2C8-BFAB-4578-A4D9-9F8C0F315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EE243-6E3B-4DCC-A70A-C73BC317E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7ED5E-8D30-4346-81E7-BFB229D1E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56278-FC72-4D83-8892-2ED1E8F55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E5C45-F68E-4DAC-B32D-BA51F9692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40D39E-D220-453D-9120-25A7FEE52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C85E6-7983-42EC-A422-2212F19D6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9EB0DD-FE93-46B5-88E9-EE48F1F261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049523-AB61-4425-B71D-4DD28004F4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2E01AB-598A-4C3D-A59A-DE51D03082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815232-0C59-4799-ADF4-39B6D37A1C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892F42-83A8-44F5-9C2F-B5F1123AC7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E39338-C452-42B9-9D18-3B7E723F85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AF3C8D-B08E-4EFE-989E-0D822A6256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A41AA3-6535-4C2E-BBB7-85EFC0F072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421FF7-02C5-46CA-9D87-2E5852DF13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061523-41D1-4641-9693-0959D4A8C4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A216E-D5C5-4916-BDE9-708F6CA45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DDC400-7864-47DA-A449-62275354CD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FAAD66-7641-47F5-BDA0-DFF74D4B9C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E1DB5E-2CCB-4C82-93CF-E7A2AE5FE9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81B1C8-ED57-44D4-8E0D-38C81E7F82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80BDED-6335-49FD-B9F9-381ADB56D7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6A5EEB-E989-4DC5-A95E-387F60D39C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3BE914-B477-4DFB-84FB-3BD5DF28F4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3DC105-0FEF-4BE4-A287-1944F9AD5A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89B01A-EA5A-4CA5-8FA1-C237F28D29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451098-9CE0-4B89-BFCC-578DC4DAB6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644B7-C095-4413-81A2-841B67748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A90661-22CC-4F48-AA22-4A517B9330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153891-152B-4450-9A6E-DEDB9CDCF2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FED155-A23A-4AE9-984A-1CB1F458D6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DFC72F-0A18-459E-8B79-D84DAD1159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F17B87-E451-4443-8F3D-14CBD9F066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442CC4-6421-4B8B-89E6-D909C85561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78C50C-52A3-474C-860E-F5FFD0A735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0FA8FC-30F1-49DF-81E2-6CE1C19C03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6BB259-066D-4B67-9241-0B7017C523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62A83A-A915-42DF-8421-2B246F0F94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3473F-AAB9-495A-863E-66C331A5E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4C668E-9D8F-4B9D-A229-3AD7568865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AA3DFC-C22A-4129-94C9-D914675FFD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14DEE0-5C1C-4707-9DC0-DBFE973E10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134285-8344-4326-951A-FFAE5A78CE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0747AC-2857-4DEC-BC66-A77CFF7DD0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DC50D5-A640-4668-BDB5-6914DF27D7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F518FC-9C39-430B-82ED-B1F7CEFCD6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044BDF-2B8A-4AF5-A709-3988A6B2FE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D31BC8-503B-4137-9A8C-6EB6F900B2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2A0A6A-A70C-480E-B37E-02B6677C2847}"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D31C4-1C5C-40F3-BBEC-03BEEE12403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5DBD5-EB2A-4DA0-802F-CB441A69FB5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569FF-F645-42A4-B3B6-6E638577283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F8F0-48E3-43ED-B5BC-78086B9D77C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259A-374A-486B-8686-AB189BEB662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BE713-8F54-4FDF-9EF2-ABA9DAF305B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94E6-FFD9-4F75-9831-60941AFB03D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F5AEC-DBB0-4EC7-95B6-640D5475630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01260-5F1D-4423-BC41-660C585728A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D56AC-D78A-4E2C-B563-19DD93E0C76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56971-3F06-4100-AC50-7B384BC5E09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E0A39-28B5-4A59-A34D-4C96D83DFA4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FFE32-DD52-4131-A6F1-7A52A616A71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77B22-96DD-45D0-9795-B90F02F2CCA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3" name=""/>
          <p:cNvSpPr txBox="1"/>
          <p:nvPr/>
        </p:nvSpPr>
        <p:spPr>
          <a:xfrm>
            <a:off x="777600" y="1387440"/>
            <a:ext cx="78325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epatotoxicity</a:t>
            </a:r>
            <a:r>
              <a:rPr b="0" lang="en-US" sz="2000" spc="-1" strike="noStrike">
                <a:solidFill>
                  <a:srgbClr val="1a1a1a"/>
                </a:solidFill>
                <a:latin typeface="Open Sans"/>
              </a:rPr>
              <a:t> with an overdose of paracetamol </a:t>
            </a: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can occur when a patient does not get adequate relief with paracetamol and decides to take more than the prescribed dose of a maximum of 4g/day (8 - 10 g / da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tional overdose (Paracetamol overdose / poisoning is the leading cause of acute liver failure in the US, UK and Australia)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verdose causes acute liver failure, as the elimination pathways are saturated resulting in elevated levels of toxic metabolit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rPr>
              <a:t>N-acetylcysteine</a:t>
            </a:r>
            <a:r>
              <a:rPr b="0" lang="en-US" sz="2400" spc="-1" strike="noStrike">
                <a:solidFill>
                  <a:srgbClr val="1a1a1a"/>
                </a:solidFill>
                <a:latin typeface="Open Sans"/>
              </a:rPr>
              <a:t> (NAC) is the antidote for paracetamol poisoning and it is most effective when administered within 8 - 10 hours after inges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Renal toxicity </a:t>
            </a:r>
            <a:r>
              <a:rPr b="0" lang="en-US" sz="2400" spc="-1" strike="noStrike">
                <a:solidFill>
                  <a:srgbClr val="1a1a1a"/>
                </a:solidFill>
                <a:latin typeface="Open Sans"/>
              </a:rPr>
              <a:t>– Overdose can cause severe </a:t>
            </a:r>
            <a:br>
              <a:rPr sz="2400"/>
            </a:br>
            <a:r>
              <a:rPr b="0" lang="en-US" sz="2400" spc="-1" strike="noStrike">
                <a:solidFill>
                  <a:srgbClr val="1a1a1a"/>
                </a:solidFill>
                <a:latin typeface="Open Sans"/>
              </a:rPr>
              <a:t>kidney necrosi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llergic reactions are rar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NSAIDs</a:t>
            </a:r>
            <a:endParaRPr b="0" lang="en-US" sz="4000" spc="-1" strike="noStrike">
              <a:solidFill>
                <a:srgbClr val="333333"/>
              </a:solidFill>
              <a:latin typeface="Open Sans Semibold"/>
            </a:endParaRPr>
          </a:p>
        </p:txBody>
      </p:sp>
      <p:sp>
        <p:nvSpPr>
          <p:cNvPr id="777" name="PlaceHolder 2"/>
          <p:cNvSpPr>
            <a:spLocks noGrp="1"/>
          </p:cNvSpPr>
          <p:nvPr>
            <p:ph/>
          </p:nvPr>
        </p:nvSpPr>
        <p:spPr>
          <a:xfrm>
            <a:off x="777600" y="4152960"/>
            <a:ext cx="6800760" cy="103968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Light"/>
                <a:ea typeface="Open Sans Light"/>
              </a:rPr>
              <a:t>Non Steroidal Anti-inflammatory Drugs</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istory of Aspirin </a:t>
            </a:r>
            <a:endParaRPr b="0" lang="en-US" sz="3200" spc="-1" strike="noStrike">
              <a:solidFill>
                <a:srgbClr val="333333"/>
              </a:solidFill>
              <a:latin typeface="Open Sans Semibold"/>
            </a:endParaRPr>
          </a:p>
        </p:txBody>
      </p:sp>
      <p:sp>
        <p:nvSpPr>
          <p:cNvPr id="77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cylate from the bark of the willow tree and was used to treat fever and rheumatism for centuri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late 19th century, salicylic acid and later acetylsalicylic acid was synthesized and called aspir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pirin was widely used to treat fever and pain till the availability of other drugs with similar mechanisms of action.  It continues to be used in many parts of the world</a:t>
            </a:r>
            <a:endParaRPr b="0" lang="en-US" sz="2200" spc="-1" strike="noStrike">
              <a:solidFill>
                <a:srgbClr val="1a1a1a"/>
              </a:solidFill>
              <a:latin typeface="Open Sans"/>
            </a:endParaRPr>
          </a:p>
        </p:txBody>
      </p:sp>
      <p:pic>
        <p:nvPicPr>
          <p:cNvPr id="780" name="Picture 4" descr="imagesCAHKNX2O"/>
          <p:cNvPicPr/>
          <p:nvPr/>
        </p:nvPicPr>
        <p:blipFill>
          <a:blip r:embed="rId1"/>
          <a:stretch/>
        </p:blipFill>
        <p:spPr>
          <a:xfrm>
            <a:off x="7162920" y="152280"/>
            <a:ext cx="1752480" cy="1312920"/>
          </a:xfrm>
          <a:prstGeom prst="rect">
            <a:avLst/>
          </a:prstGeom>
          <a:ln w="0">
            <a:noFill/>
          </a:ln>
        </p:spPr>
      </p:pic>
      <p:pic>
        <p:nvPicPr>
          <p:cNvPr id="781" name="Picture 5" descr="imagesCA0YWR3J"/>
          <p:cNvPicPr/>
          <p:nvPr/>
        </p:nvPicPr>
        <p:blipFill>
          <a:blip r:embed="rId2"/>
          <a:stretch/>
        </p:blipFill>
        <p:spPr>
          <a:xfrm>
            <a:off x="5638680" y="152280"/>
            <a:ext cx="1467000" cy="131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 </a:t>
            </a:r>
            <a:endParaRPr b="0" lang="en-US" sz="29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re diverse group of compounds which were later synthesized, with actions similar to that of aspirin and became known as NSAID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 of action of aspirin / NSAIDs was discovered in the 1960’s by Prof Vane, who was awarded a Nobel prize in Medicine in 198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a:t>
            </a:r>
            <a:endParaRPr b="0" lang="en-US" sz="29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are widely used to treat pain </a:t>
            </a:r>
            <a:br>
              <a:rPr sz="2400"/>
            </a:br>
            <a:r>
              <a:rPr b="0" lang="en-US" sz="2400" spc="-1" strike="noStrike">
                <a:solidFill>
                  <a:srgbClr val="1a1a1a"/>
                </a:solidFill>
                <a:latin typeface="Open Sans"/>
              </a:rPr>
              <a:t>and inflamm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ct through inhibition of the two isoforms </a:t>
            </a:r>
            <a:br>
              <a:rPr sz="2400"/>
            </a:br>
            <a:r>
              <a:rPr b="0" lang="en-US" sz="2400" spc="-1" strike="noStrike">
                <a:solidFill>
                  <a:srgbClr val="1a1a1a"/>
                </a:solidFill>
                <a:latin typeface="Open Sans"/>
              </a:rPr>
              <a:t>of the enzyme cyclooxygenase (COX) – i.e. COX-1 </a:t>
            </a:r>
            <a:br>
              <a:rPr sz="2400"/>
            </a:br>
            <a:r>
              <a:rPr b="0" lang="en-US" sz="2400" spc="-1" strike="noStrike">
                <a:solidFill>
                  <a:srgbClr val="1a1a1a"/>
                </a:solidFill>
                <a:latin typeface="Open Sans"/>
              </a:rPr>
              <a:t>and COX-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that act on both the enzymes are known </a:t>
            </a:r>
            <a:br>
              <a:rPr sz="2400"/>
            </a:br>
            <a:r>
              <a:rPr b="0" lang="en-US" sz="2400" spc="-1" strike="noStrike">
                <a:solidFill>
                  <a:srgbClr val="1a1a1a"/>
                </a:solidFill>
                <a:latin typeface="Open Sans"/>
              </a:rPr>
              <a:t>as </a:t>
            </a:r>
            <a:r>
              <a:rPr b="1" lang="en-US" sz="2400" spc="-1" strike="noStrike">
                <a:solidFill>
                  <a:srgbClr val="1a1a1a"/>
                </a:solidFill>
                <a:latin typeface="Open Sans"/>
              </a:rPr>
              <a:t>non-selective NSAIDs (ns-NSAID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which act predominantly on the COX-2 enzyme are known as </a:t>
            </a:r>
            <a:r>
              <a:rPr b="1" lang="en-US" sz="2400" spc="-1" strike="noStrike">
                <a:solidFill>
                  <a:srgbClr val="1a1a1a"/>
                </a:solidFill>
                <a:latin typeface="Open Sans"/>
              </a:rPr>
              <a:t>specific COX-2 inhibitors </a:t>
            </a:r>
            <a:r>
              <a:rPr b="0" lang="en-US" sz="2400" spc="-1" strike="noStrike">
                <a:solidFill>
                  <a:srgbClr val="1a1a1a"/>
                </a:solidFill>
                <a:latin typeface="Open Sans"/>
              </a:rPr>
              <a:t>(also referred to as Coxib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Two Isoforms of COX</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1</a:t>
            </a:r>
            <a:r>
              <a:rPr b="0" lang="en-US" sz="2000" spc="-1" strike="noStrike">
                <a:solidFill>
                  <a:srgbClr val="1a1a1a"/>
                </a:solidFill>
                <a:latin typeface="Open Sans"/>
              </a:rPr>
              <a:t> is a normal constituent in the body for homeostasis, such as 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Gastric mucosa – gastric cytoprotec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Kidney – Sodium and water balance / renal perfus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latelets – for aggregation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induced in the presence of injury and inflamm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also a normal constituent in the many organs such as: Kidney, brain, endothelium, ovary and uteru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happens when there is tissue injury? </a:t>
            </a:r>
            <a:endParaRPr b="0" lang="en-US" sz="3200" spc="-1" strike="noStrike">
              <a:solidFill>
                <a:srgbClr val="333333"/>
              </a:solidFill>
              <a:latin typeface="Open Sans Semibold"/>
            </a:endParaRPr>
          </a:p>
        </p:txBody>
      </p:sp>
      <p:sp>
        <p:nvSpPr>
          <p:cNvPr id="789" name="Rectangle 4"/>
          <p:cNvSpPr/>
          <p:nvPr/>
        </p:nvSpPr>
        <p:spPr>
          <a:xfrm>
            <a:off x="2971800" y="1486080"/>
            <a:ext cx="2971800" cy="6094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Membrane phospholipids</a:t>
            </a:r>
            <a:endParaRPr b="0" lang="en-US" sz="1800" spc="-1" strike="noStrike">
              <a:solidFill>
                <a:srgbClr val="1a1a1a"/>
              </a:solidFill>
              <a:latin typeface="Arial"/>
            </a:endParaRPr>
          </a:p>
        </p:txBody>
      </p:sp>
      <p:sp>
        <p:nvSpPr>
          <p:cNvPr id="790" name="Rectangle 6"/>
          <p:cNvSpPr/>
          <p:nvPr/>
        </p:nvSpPr>
        <p:spPr>
          <a:xfrm>
            <a:off x="304920" y="1371600"/>
            <a:ext cx="1295280" cy="838080"/>
          </a:xfrm>
          <a:prstGeom prst="rect">
            <a:avLst/>
          </a:prstGeom>
          <a:solidFill>
            <a:srgbClr val="c2ecff"/>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ell wall</a:t>
            </a:r>
            <a:endParaRPr b="0" lang="en-US" sz="18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r>
              <a:rPr b="0" lang="en-US" sz="1800" spc="-1" strike="noStrike">
                <a:solidFill>
                  <a:srgbClr val="1a1a1a"/>
                </a:solidFill>
                <a:latin typeface="Open Sans"/>
              </a:rPr>
              <a:t>injury </a:t>
            </a:r>
            <a:endParaRPr b="0" lang="en-US" sz="1800" spc="-1" strike="noStrike">
              <a:solidFill>
                <a:srgbClr val="1a1a1a"/>
              </a:solidFill>
              <a:latin typeface="Arial"/>
            </a:endParaRPr>
          </a:p>
        </p:txBody>
      </p:sp>
      <p:sp>
        <p:nvSpPr>
          <p:cNvPr id="791" name="AutoShape 8"/>
          <p:cNvSpPr/>
          <p:nvPr/>
        </p:nvSpPr>
        <p:spPr>
          <a:xfrm>
            <a:off x="1905120" y="1752480"/>
            <a:ext cx="914400" cy="76320"/>
          </a:xfrm>
          <a:prstGeom prst="rightArrow">
            <a:avLst>
              <a:gd name="adj1" fmla="val 50000"/>
              <a:gd name="adj2" fmla="val 299528"/>
            </a:avLst>
          </a:prstGeom>
          <a:solidFill>
            <a:srgbClr val="333333"/>
          </a:solidFill>
          <a:ln w="9360">
            <a:solidFill>
              <a:srgbClr val="333333"/>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2" name="Text Box 9"/>
          <p:cNvSpPr/>
          <p:nvPr/>
        </p:nvSpPr>
        <p:spPr>
          <a:xfrm>
            <a:off x="1752480" y="1371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leases</a:t>
            </a:r>
            <a:endParaRPr b="0" lang="en-US" sz="1800" spc="-1" strike="noStrike">
              <a:solidFill>
                <a:srgbClr val="1a1a1a"/>
              </a:solidFill>
              <a:latin typeface="Arial"/>
            </a:endParaRPr>
          </a:p>
        </p:txBody>
      </p:sp>
      <p:sp>
        <p:nvSpPr>
          <p:cNvPr id="793" name="AutoShape 10"/>
          <p:cNvSpPr/>
          <p:nvPr/>
        </p:nvSpPr>
        <p:spPr>
          <a:xfrm>
            <a:off x="4381560" y="2163600"/>
            <a:ext cx="152280" cy="685800"/>
          </a:xfrm>
          <a:prstGeom prst="downArrow">
            <a:avLst>
              <a:gd name="adj1" fmla="val 50000"/>
              <a:gd name="adj2" fmla="val 11258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4" name="Rectangle 11"/>
          <p:cNvSpPr/>
          <p:nvPr/>
        </p:nvSpPr>
        <p:spPr>
          <a:xfrm>
            <a:off x="2971800" y="2917800"/>
            <a:ext cx="2971800" cy="3808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Arachidonic Acid </a:t>
            </a:r>
            <a:endParaRPr b="0" lang="en-US" sz="1800" spc="-1" strike="noStrike">
              <a:solidFill>
                <a:srgbClr val="1a1a1a"/>
              </a:solidFill>
              <a:latin typeface="Arial"/>
            </a:endParaRPr>
          </a:p>
        </p:txBody>
      </p:sp>
      <p:sp>
        <p:nvSpPr>
          <p:cNvPr id="795" name="Text Box 13"/>
          <p:cNvSpPr/>
          <p:nvPr/>
        </p:nvSpPr>
        <p:spPr>
          <a:xfrm>
            <a:off x="4876920" y="2338560"/>
            <a:ext cx="2666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hospholipase 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796" name="AutoShape 14"/>
          <p:cNvSpPr/>
          <p:nvPr/>
        </p:nvSpPr>
        <p:spPr>
          <a:xfrm>
            <a:off x="4381560" y="3365640"/>
            <a:ext cx="152280" cy="761760"/>
          </a:xfrm>
          <a:prstGeom prst="downArrow">
            <a:avLst>
              <a:gd name="adj1" fmla="val 50000"/>
              <a:gd name="adj2" fmla="val 12505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7" name="Text Box 15"/>
          <p:cNvSpPr/>
          <p:nvPr/>
        </p:nvSpPr>
        <p:spPr>
          <a:xfrm>
            <a:off x="4876920" y="3456000"/>
            <a:ext cx="3733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COX-1 &amp; </a:t>
            </a:r>
            <a:r>
              <a:rPr b="1" lang="en-US" sz="1600" spc="-1" strike="noStrike">
                <a:solidFill>
                  <a:srgbClr val="1a1a1a"/>
                </a:solidFill>
                <a:latin typeface="Open Sans"/>
              </a:rPr>
              <a:t>COX-2 that is induced with injury and inflammation, cancer</a:t>
            </a:r>
            <a:endParaRPr b="0" lang="en-US" sz="1600" spc="-1" strike="noStrike">
              <a:solidFill>
                <a:srgbClr val="1a1a1a"/>
              </a:solidFill>
              <a:latin typeface="Arial"/>
            </a:endParaRPr>
          </a:p>
        </p:txBody>
      </p:sp>
      <p:sp>
        <p:nvSpPr>
          <p:cNvPr id="798" name="Line 16"/>
          <p:cNvSpPr/>
          <p:nvPr/>
        </p:nvSpPr>
        <p:spPr>
          <a:xfrm flipH="1">
            <a:off x="4571640" y="250668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Line 17"/>
          <p:cNvSpPr/>
          <p:nvPr/>
        </p:nvSpPr>
        <p:spPr>
          <a:xfrm flipH="1">
            <a:off x="4571640" y="374652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0" name="Text Box 18"/>
          <p:cNvSpPr/>
          <p:nvPr/>
        </p:nvSpPr>
        <p:spPr>
          <a:xfrm>
            <a:off x="4038480" y="4181040"/>
            <a:ext cx="83844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1" name="Text Box 19"/>
          <p:cNvSpPr/>
          <p:nvPr/>
        </p:nvSpPr>
        <p:spPr>
          <a:xfrm>
            <a:off x="4861440" y="4214880"/>
            <a:ext cx="190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Prostaglandin H</a:t>
            </a:r>
            <a:r>
              <a:rPr b="0" lang="en-US" sz="1600" spc="-1" strike="noStrike" baseline="-25000">
                <a:solidFill>
                  <a:srgbClr val="1a1a1a"/>
                </a:solidFill>
                <a:latin typeface="Open Sans"/>
              </a:rPr>
              <a:t>2</a:t>
            </a:r>
            <a:r>
              <a:rPr b="0" lang="en-US" sz="1600" spc="-1" strike="noStrike">
                <a:solidFill>
                  <a:srgbClr val="1a1a1a"/>
                </a:solidFill>
                <a:latin typeface="Open Sans"/>
              </a:rPr>
              <a:t>)</a:t>
            </a:r>
            <a:endParaRPr b="0" lang="en-US" sz="1600" spc="-1" strike="noStrike">
              <a:solidFill>
                <a:srgbClr val="1a1a1a"/>
              </a:solidFill>
              <a:latin typeface="Arial"/>
            </a:endParaRPr>
          </a:p>
        </p:txBody>
      </p:sp>
      <p:sp>
        <p:nvSpPr>
          <p:cNvPr id="802" name="Line 20"/>
          <p:cNvSpPr/>
          <p:nvPr/>
        </p:nvSpPr>
        <p:spPr>
          <a:xfrm flipH="1">
            <a:off x="1181160" y="4572000"/>
            <a:ext cx="32767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xt Box 21"/>
          <p:cNvSpPr/>
          <p:nvPr/>
        </p:nvSpPr>
        <p:spPr>
          <a:xfrm>
            <a:off x="7621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D</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4" name="Line 22"/>
          <p:cNvSpPr/>
          <p:nvPr/>
        </p:nvSpPr>
        <p:spPr>
          <a:xfrm>
            <a:off x="4457880" y="4572000"/>
            <a:ext cx="339084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5" name="Text Box 23"/>
          <p:cNvSpPr/>
          <p:nvPr/>
        </p:nvSpPr>
        <p:spPr>
          <a:xfrm>
            <a:off x="742968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X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6" name="Line 24"/>
          <p:cNvSpPr/>
          <p:nvPr/>
        </p:nvSpPr>
        <p:spPr>
          <a:xfrm>
            <a:off x="4457880" y="4572000"/>
            <a:ext cx="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7" name="Text Box 25"/>
          <p:cNvSpPr/>
          <p:nvPr/>
        </p:nvSpPr>
        <p:spPr>
          <a:xfrm>
            <a:off x="4038480" y="5243040"/>
            <a:ext cx="838440" cy="405720"/>
          </a:xfrm>
          <a:prstGeom prst="rect">
            <a:avLst/>
          </a:prstGeom>
          <a:solidFill>
            <a:srgbClr val="ff6600"/>
          </a:solidFill>
          <a:ln w="9360">
            <a:solidFill>
              <a:srgbClr val="1a1a1a"/>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E</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8" name="Line 26"/>
          <p:cNvSpPr/>
          <p:nvPr/>
        </p:nvSpPr>
        <p:spPr>
          <a:xfrm flipH="1">
            <a:off x="2781000" y="4572000"/>
            <a:ext cx="16765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9" name="Text Box 27"/>
          <p:cNvSpPr/>
          <p:nvPr/>
        </p:nvSpPr>
        <p:spPr>
          <a:xfrm>
            <a:off x="23623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I</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0" name="Line 28"/>
          <p:cNvSpPr/>
          <p:nvPr/>
        </p:nvSpPr>
        <p:spPr>
          <a:xfrm>
            <a:off x="4457880" y="4572000"/>
            <a:ext cx="144756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11" name="Text Box 29"/>
          <p:cNvSpPr/>
          <p:nvPr/>
        </p:nvSpPr>
        <p:spPr>
          <a:xfrm>
            <a:off x="548640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F</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2" name="Text Box 30"/>
          <p:cNvSpPr/>
          <p:nvPr/>
        </p:nvSpPr>
        <p:spPr>
          <a:xfrm>
            <a:off x="762120" y="5852520"/>
            <a:ext cx="556236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  PGE</a:t>
            </a:r>
            <a:r>
              <a:rPr b="0" lang="en-US" sz="1800" spc="-1" strike="noStrike" baseline="-25000">
                <a:solidFill>
                  <a:srgbClr val="1a1a1a"/>
                </a:solidFill>
                <a:latin typeface="Open Sans"/>
              </a:rPr>
              <a:t>2</a:t>
            </a:r>
            <a:r>
              <a:rPr b="0" lang="en-US" sz="1800" spc="-1" strike="noStrike">
                <a:solidFill>
                  <a:srgbClr val="1a1a1a"/>
                </a:solidFill>
                <a:latin typeface="Open Sans"/>
              </a:rPr>
              <a:t> as the most significant </a:t>
            </a:r>
            <a:endParaRPr b="0" lang="en-US" sz="1800" spc="-1" strike="noStrike">
              <a:solidFill>
                <a:srgbClr val="1a1a1a"/>
              </a:solidFill>
              <a:latin typeface="Arial"/>
            </a:endParaRPr>
          </a:p>
        </p:txBody>
      </p:sp>
      <p:sp>
        <p:nvSpPr>
          <p:cNvPr id="813" name="Text Box 31"/>
          <p:cNvSpPr/>
          <p:nvPr/>
        </p:nvSpPr>
        <p:spPr>
          <a:xfrm>
            <a:off x="6858000" y="5871240"/>
            <a:ext cx="1981080" cy="36828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15"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6"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17"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8"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9"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0"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1" name="Text Box 18"/>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2"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23"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24"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5"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26"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27"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28"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9"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30"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31"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32" name="Text Box 30"/>
          <p:cNvSpPr/>
          <p:nvPr/>
        </p:nvSpPr>
        <p:spPr>
          <a:xfrm>
            <a:off x="152280" y="5886720"/>
            <a:ext cx="6248520" cy="580680"/>
          </a:xfrm>
          <a:prstGeom prst="rect">
            <a:avLst/>
          </a:prstGeom>
          <a:noFill/>
          <a:ln w="28440">
            <a:solidFill>
              <a:srgbClr val="cc33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These inflammatory mediators activate the nociceptors on the A</a:t>
            </a:r>
            <a:r>
              <a:rPr b="0" lang="el-GR" sz="1600" spc="-1" strike="noStrike">
                <a:solidFill>
                  <a:srgbClr val="1a1a1a"/>
                </a:solidFill>
                <a:latin typeface="Open Sans"/>
              </a:rPr>
              <a:t>δ</a:t>
            </a:r>
            <a:r>
              <a:rPr b="0" lang="en-US" sz="1600" spc="-1" strike="noStrike">
                <a:solidFill>
                  <a:srgbClr val="1a1a1a"/>
                </a:solidFill>
                <a:latin typeface="Open Sans"/>
              </a:rPr>
              <a:t> and c fibres and result in pain and sensitization</a:t>
            </a:r>
            <a:endParaRPr b="0" lang="en-US" sz="1600" spc="-1" strike="noStrike">
              <a:solidFill>
                <a:srgbClr val="1a1a1a"/>
              </a:solidFill>
              <a:latin typeface="Arial"/>
            </a:endParaRPr>
          </a:p>
        </p:txBody>
      </p:sp>
      <p:sp>
        <p:nvSpPr>
          <p:cNvPr id="833"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Text Box 10"/>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5" name="Text Box 23"/>
          <p:cNvSpPr/>
          <p:nvPr/>
        </p:nvSpPr>
        <p:spPr>
          <a:xfrm>
            <a:off x="152280" y="25146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SAIDs / COX-2 inhibitors </a:t>
            </a:r>
            <a:endParaRPr b="0" lang="en-US" sz="1800" spc="-1" strike="noStrike">
              <a:solidFill>
                <a:srgbClr val="1a1a1a"/>
              </a:solidFill>
              <a:latin typeface="Arial"/>
            </a:endParaRPr>
          </a:p>
        </p:txBody>
      </p:sp>
      <p:sp>
        <p:nvSpPr>
          <p:cNvPr id="836" name="Line 24"/>
          <p:cNvSpPr/>
          <p:nvPr/>
        </p:nvSpPr>
        <p:spPr>
          <a:xfrm>
            <a:off x="1143000" y="5562720"/>
            <a:ext cx="0" cy="0"/>
          </a:xfrm>
          <a:prstGeom prst="line">
            <a:avLst/>
          </a:prstGeom>
          <a:ln w="9360">
            <a:solidFill>
              <a:srgbClr val="1a1a1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37" name="Text Box 25"/>
          <p:cNvSpPr/>
          <p:nvPr/>
        </p:nvSpPr>
        <p:spPr>
          <a:xfrm>
            <a:off x="380880" y="57150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duce Prostaglandins and Thromboxane, resulting in reduced pain  </a:t>
            </a:r>
            <a:endParaRPr b="0" lang="en-US" sz="1800" spc="-1" strike="noStrike">
              <a:solidFill>
                <a:srgbClr val="1a1a1a"/>
              </a:solidFill>
              <a:latin typeface="Arial"/>
            </a:endParaRPr>
          </a:p>
        </p:txBody>
      </p:sp>
      <p:sp>
        <p:nvSpPr>
          <p:cNvPr id="838"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39"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0"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41"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2"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3"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4"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5"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46"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47"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49"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50"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51"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54"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55" name="Line 21"/>
          <p:cNvSpPr/>
          <p:nvPr/>
        </p:nvSpPr>
        <p:spPr>
          <a:xfrm>
            <a:off x="1828800" y="3200400"/>
            <a:ext cx="1143000" cy="76212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6" name="Line 22"/>
          <p:cNvSpPr/>
          <p:nvPr/>
        </p:nvSpPr>
        <p:spPr>
          <a:xfrm flipH="1">
            <a:off x="1905120" y="3124080"/>
            <a:ext cx="914400" cy="91440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666880" y="510516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1371600" y="3962160"/>
            <a:ext cx="6858000" cy="9903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of Analgesic Medications </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amp; Non-Phramacologcial Treatments </a:t>
            </a:r>
            <a:endParaRPr b="0" lang="en-US" sz="2800" spc="-1" strike="noStrike">
              <a:solidFill>
                <a:srgbClr val="1a1a1a"/>
              </a:solidFill>
              <a:latin typeface="Open Sans"/>
            </a:endParaRPr>
          </a:p>
        </p:txBody>
      </p:sp>
      <p:sp>
        <p:nvSpPr>
          <p:cNvPr id="753" name="PlaceHolder 3"/>
          <p:cNvSpPr>
            <a:spLocks noGrp="1"/>
          </p:cNvSpPr>
          <p:nvPr>
            <p:ph/>
          </p:nvPr>
        </p:nvSpPr>
        <p:spPr>
          <a:xfrm>
            <a:off x="1295280" y="3200040"/>
            <a:ext cx="680112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4600" spc="-1" strike="noStrike">
                <a:solidFill>
                  <a:srgbClr val="1a1a1a"/>
                </a:solidFill>
                <a:latin typeface="Open Sans"/>
              </a:rPr>
              <a:t>Clinical Pharmacology</a:t>
            </a:r>
            <a:endParaRPr b="0" lang="en-US" sz="4600" spc="-1" strike="noStrike">
              <a:solidFill>
                <a:srgbClr val="1a1a1a"/>
              </a:solidFill>
              <a:latin typeface="Open Sans"/>
            </a:endParaRPr>
          </a:p>
        </p:txBody>
      </p:sp>
      <p:sp>
        <p:nvSpPr>
          <p:cNvPr id="754" name="Text Box 5"/>
          <p:cNvSpPr/>
          <p:nvPr/>
        </p:nvSpPr>
        <p:spPr>
          <a:xfrm>
            <a:off x="2286000" y="5867280"/>
            <a:ext cx="5791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i="1" lang="en-US" sz="2400" spc="-1" strike="noStrike">
                <a:solidFill>
                  <a:srgbClr val="1a1a1a"/>
                </a:solidFill>
                <a:latin typeface="Arial"/>
              </a:rPr>
              <a:t> </a:t>
            </a:r>
            <a:r>
              <a:rPr b="0" i="1" lang="en-US" sz="2400" spc="-1" strike="noStrike">
                <a:solidFill>
                  <a:srgbClr val="3399ff"/>
                </a:solidFill>
                <a:latin typeface="Arial"/>
              </a:rPr>
              <a:t>the name of</a:t>
            </a:r>
            <a:r>
              <a:rPr b="0" i="1" lang="en-US" sz="2400" spc="-1" strike="noStrike">
                <a:solidFill>
                  <a:srgbClr val="1a1a1a"/>
                </a:solidFill>
                <a:latin typeface="Arial"/>
              </a:rPr>
              <a:t> </a:t>
            </a:r>
            <a:r>
              <a:rPr b="0" i="1" lang="en-US" sz="2400" spc="-1" strike="noStrike">
                <a:solidFill>
                  <a:srgbClr val="3399ff"/>
                </a:solidFill>
                <a:latin typeface="Arial"/>
              </a:rPr>
              <a:t>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3805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s-NSAIDs</a:t>
            </a:r>
            <a:endParaRPr b="0" lang="en-US" sz="3200" spc="-1" strike="noStrike">
              <a:solidFill>
                <a:srgbClr val="333333"/>
              </a:solidFill>
              <a:latin typeface="Open Sans Semibold"/>
            </a:endParaRPr>
          </a:p>
        </p:txBody>
      </p:sp>
      <p:sp>
        <p:nvSpPr>
          <p:cNvPr id="859" name=""/>
          <p:cNvSpPr txBox="1"/>
          <p:nvPr/>
        </p:nvSpPr>
        <p:spPr>
          <a:xfrm>
            <a:off x="777600" y="1387440"/>
            <a:ext cx="41749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Acetylsalicylic acid (aspir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ppository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buprofe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spension for children</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ndomethac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Diclofenac</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 suppositories, parenteral form available</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Mefenamic acid</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0" name=""/>
          <p:cNvSpPr txBox="1"/>
          <p:nvPr/>
        </p:nvSpPr>
        <p:spPr>
          <a:xfrm>
            <a:off x="5181480" y="1387440"/>
            <a:ext cx="31831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Cel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capsule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Etori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Par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renteral</a:t>
            </a:r>
            <a:endParaRPr b="0" lang="en-US" sz="18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1" name="Rectangle 4"/>
          <p:cNvSpPr/>
          <p:nvPr/>
        </p:nvSpPr>
        <p:spPr>
          <a:xfrm>
            <a:off x="5181480" y="439560"/>
            <a:ext cx="38102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X-2 specific </a:t>
            </a:r>
            <a:br>
              <a:rPr sz="3200"/>
            </a:br>
            <a:r>
              <a:rPr b="0" lang="en-US" sz="3200" spc="-1" strike="noStrike">
                <a:solidFill>
                  <a:srgbClr val="333333"/>
                </a:solidFill>
                <a:latin typeface="Open Sans Semibold"/>
              </a:rPr>
              <a:t>inhibitors </a:t>
            </a:r>
            <a:r>
              <a:rPr b="0" lang="en-US" sz="2800" spc="-1" strike="noStrike">
                <a:solidFill>
                  <a:srgbClr val="333333"/>
                </a:solidFill>
                <a:latin typeface="Open Sans Semibold"/>
              </a:rPr>
              <a:t>(= </a:t>
            </a:r>
            <a:r>
              <a:rPr b="0" lang="en-US" sz="2800" spc="-1" strike="noStrike">
                <a:solidFill>
                  <a:srgbClr val="1a1a1a"/>
                </a:solidFill>
                <a:latin typeface="Arial"/>
              </a:rPr>
              <a:t>Coxibs)</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Anti-Pyretics / NSAIDs on the WHO essential drug list : </a:t>
            </a:r>
            <a:endParaRPr b="0" lang="en-US" sz="2900" spc="-1" strike="noStrike">
              <a:solidFill>
                <a:srgbClr val="333333"/>
              </a:solidFill>
              <a:latin typeface="Open Sans Semibold"/>
            </a:endParaRPr>
          </a:p>
        </p:txBody>
      </p:sp>
      <p:sp>
        <p:nvSpPr>
          <p:cNvPr id="863" name=""/>
          <p:cNvSpPr txBox="1"/>
          <p:nvPr/>
        </p:nvSpPr>
        <p:spPr>
          <a:xfrm>
            <a:off x="777960" y="1539360"/>
            <a:ext cx="7586640" cy="493740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etylsalicylic acid (Aspir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50 mg to 150 mg</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buprofen &gt; 3 months in ag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200 mg; 400 m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200 mg / 5 ml</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aracetamo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100mg, 25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125 mg / 5 ml</a:t>
            </a:r>
            <a:r>
              <a:rPr b="0" lang="en-US"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and Elimination</a:t>
            </a:r>
            <a:endParaRPr b="0" lang="en-US" sz="3200" spc="-1" strike="noStrike">
              <a:solidFill>
                <a:srgbClr val="333333"/>
              </a:solidFill>
              <a:latin typeface="Open Sans Semibold"/>
            </a:endParaRPr>
          </a:p>
        </p:txBody>
      </p:sp>
      <p:sp>
        <p:nvSpPr>
          <p:cNvPr id="865" name=""/>
          <p:cNvSpPr txBox="1"/>
          <p:nvPr/>
        </p:nvSpPr>
        <p:spPr>
          <a:xfrm>
            <a:off x="777960" y="1387440"/>
            <a:ext cx="7586640" cy="1889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administered orally, aspirin, ns-NSAIDs and </a:t>
            </a:r>
            <a:br>
              <a:rPr sz="2200"/>
            </a:br>
            <a:r>
              <a:rPr b="0" lang="en-US" sz="2200" spc="-1" strike="noStrike">
                <a:solidFill>
                  <a:srgbClr val="1a1a1a"/>
                </a:solidFill>
                <a:latin typeface="Open Sans"/>
              </a:rPr>
              <a:t>Coxibs are well absorbed and reach therapeutic </a:t>
            </a:r>
            <a:br>
              <a:rPr sz="2200"/>
            </a:br>
            <a:r>
              <a:rPr b="0" lang="en-US" sz="2200" spc="-1" strike="noStrike">
                <a:solidFill>
                  <a:srgbClr val="1a1a1a"/>
                </a:solidFill>
                <a:latin typeface="Open Sans"/>
              </a:rPr>
              <a:t>levels within 30 to 60 minut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t>
            </a:r>
            <a:endParaRPr b="0" lang="en-US" sz="3200" spc="-1" strike="noStrike">
              <a:solidFill>
                <a:srgbClr val="333333"/>
              </a:solidFill>
              <a:latin typeface="Open Sans Semibold"/>
            </a:endParaRPr>
          </a:p>
        </p:txBody>
      </p:sp>
      <p:sp>
        <p:nvSpPr>
          <p:cNvPr id="867" name=""/>
          <p:cNvSpPr txBox="1"/>
          <p:nvPr/>
        </p:nvSpPr>
        <p:spPr>
          <a:xfrm>
            <a:off x="777960" y="1387440"/>
            <a:ext cx="758664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the ns-NSAIDs and Coxibs have the same efficacy in postoperative analgesia</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le analgesia for day surge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ong with opioids for major surgery</a:t>
            </a:r>
            <a:endParaRPr b="0" lang="en-US" sz="2200" spc="-1" strike="noStrike">
              <a:solidFill>
                <a:srgbClr val="1a1a1a"/>
              </a:solidFill>
              <a:latin typeface="Open Sans"/>
            </a:endParaRPr>
          </a:p>
          <a:p>
            <a:pPr lvl="2" marL="1033200" indent="-27864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ulo-skeletal pain – e.g. back pain, joints, </a:t>
            </a:r>
            <a:br>
              <a:rPr sz="2200"/>
            </a:br>
            <a:r>
              <a:rPr b="0" lang="en-US" sz="2200" spc="-1" strike="noStrike">
                <a:solidFill>
                  <a:srgbClr val="1a1a1a"/>
                </a:solidFill>
                <a:latin typeface="Open Sans"/>
              </a:rPr>
              <a:t>muscle sprains etc.</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Not indicated for neuropath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 Adverse effects </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astrointestinal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risk of </a:t>
            </a:r>
            <a:r>
              <a:rPr b="1" lang="en-US" sz="2200" spc="-1" strike="noStrike">
                <a:solidFill>
                  <a:srgbClr val="1a1a1a"/>
                </a:solidFill>
                <a:latin typeface="Open Sans"/>
              </a:rPr>
              <a:t>erosions, ulcers and bleeding </a:t>
            </a:r>
            <a:r>
              <a:rPr b="0" lang="en-US" sz="2200" spc="-1" strike="noStrike">
                <a:solidFill>
                  <a:srgbClr val="1a1a1a"/>
                </a:solidFill>
                <a:latin typeface="Open Sans"/>
              </a:rPr>
              <a:t>is higher with ns-NSAIDs compared to Coxib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risk with ns-NSAIDs is also variable with some being less than oth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isk is greater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elderly patien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ose who are also taking aspiri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can be reduced by adding a proton-pump inhibitor (e.g. omeprazole) to ns-NSAID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2 receptor blockers are not very effect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nal effects</a:t>
            </a:r>
            <a:endParaRPr b="0" lang="en-US" sz="3200" spc="-1" strike="noStrike">
              <a:solidFill>
                <a:srgbClr val="333333"/>
              </a:solidFill>
              <a:latin typeface="Open Sans Semibold"/>
            </a:endParaRPr>
          </a:p>
        </p:txBody>
      </p:sp>
      <p:sp>
        <p:nvSpPr>
          <p:cNvPr id="8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COX-1 &amp; 2 are constituent enzymes in the kidne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renal perfusion and sodium/water bal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ns-NSAIDs and Coxibs can ca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odem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creatinine clearance that may be significant in patients with impaired renal function or transient hypotension / hypovolaemia in the postoperative peri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diovascular effects </a:t>
            </a:r>
            <a:endParaRPr b="0" lang="en-US" sz="3200" spc="-1" strike="noStrike">
              <a:solidFill>
                <a:srgbClr val="333333"/>
              </a:solidFill>
              <a:latin typeface="Open Sans Semibold"/>
            </a:endParaRPr>
          </a:p>
        </p:txBody>
      </p:sp>
      <p:sp>
        <p:nvSpPr>
          <p:cNvPr id="873" name=""/>
          <p:cNvSpPr txBox="1"/>
          <p:nvPr/>
        </p:nvSpPr>
        <p:spPr>
          <a:xfrm>
            <a:off x="777600" y="1387440"/>
            <a:ext cx="7908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studies have shown that there was a higher risk </a:t>
            </a:r>
            <a:br>
              <a:rPr sz="2200"/>
            </a:br>
            <a:r>
              <a:rPr b="0" lang="en-US" sz="2200" spc="-1" strike="noStrike">
                <a:solidFill>
                  <a:srgbClr val="1a1a1a"/>
                </a:solidFill>
                <a:latin typeface="Open Sans"/>
              </a:rPr>
              <a:t>of thrombotic cardiovascular events (stroke, heart attack) when on Coxibs when compared to ns-NSAIDs such </a:t>
            </a:r>
            <a:br>
              <a:rPr sz="2200"/>
            </a:br>
            <a:r>
              <a:rPr b="0" lang="en-US" sz="2200" spc="-1" strike="noStrike">
                <a:solidFill>
                  <a:srgbClr val="1a1a1a"/>
                </a:solidFill>
                <a:latin typeface="Open Sans"/>
              </a:rPr>
              <a:t>as naprox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studies have shown that the cardiovascular </a:t>
            </a:r>
            <a:br>
              <a:rPr sz="2200"/>
            </a:br>
            <a:r>
              <a:rPr b="0" lang="en-US" sz="2200" spc="-1" strike="noStrike">
                <a:solidFill>
                  <a:srgbClr val="1a1a1a"/>
                </a:solidFill>
                <a:latin typeface="Open Sans"/>
              </a:rPr>
              <a:t>events are simila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vertheless, current recommendations are that Coxibs should not be used in patients with active cardiovascular disease  and a known thrombotic condi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ffect on platelet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are able to prevent platelet aggregation as platelets do not have COX-2. There is therefore a potential for bleeding with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do not prevent platelet aggreg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should be used with caution in patients who are already on aspir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s</a:t>
            </a: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ns-NSAIDs can precipitate asthma is aspirin sensitive asthmatic pati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are well tolerated by patients who have aspirin sensitive asthma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ont.) </a:t>
            </a:r>
            <a:endParaRPr b="0" lang="en-US" sz="3200" spc="-1" strike="noStrike">
              <a:solidFill>
                <a:srgbClr val="333333"/>
              </a:solidFill>
              <a:latin typeface="Open Sans Semibold"/>
            </a:endParaRPr>
          </a:p>
        </p:txBody>
      </p:sp>
      <p:sp>
        <p:nvSpPr>
          <p:cNvPr id="87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are effective in providing pain relief for </a:t>
            </a:r>
            <a:br>
              <a:rPr sz="2200"/>
            </a:br>
            <a:r>
              <a:rPr b="0" lang="en-US" sz="2200" spc="-1" strike="noStrike">
                <a:solidFill>
                  <a:srgbClr val="1a1a1a"/>
                </a:solidFill>
                <a:latin typeface="Open Sans"/>
              </a:rPr>
              <a:t>moder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echanism of action of both groups of drugs is by inhibiting the COX-2 enzyme that is induced with injury, inflammation and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Gastrointestinal side effects are less with coxib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ents of this Lectur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Clinical Pharmacology of:</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racetamol (Acetaminophe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on-steroidal anti-inflammatory drugs (NSAIDS) / COX-2  specific inhibitor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pioid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Ketamine</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Drugs used for neuropathic pai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Local Anaesthetic agent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thers - Steroids</a:t>
            </a:r>
            <a:endParaRPr b="0" lang="en-US" sz="2400" spc="-1" strike="noStrike">
              <a:solidFill>
                <a:srgbClr val="1a1a1a"/>
              </a:solidFill>
              <a:latin typeface="Open Sans"/>
            </a:endParaRPr>
          </a:p>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Non-drug treatmen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88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have no effect on platelet aggregat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with caution in patients with renal impairment and in the elder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should not be used in patients with active cardiovascular disease or known thrombotic effect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can be given to patients with aspirin </a:t>
            </a:r>
            <a:br>
              <a:rPr sz="2200"/>
            </a:br>
            <a:r>
              <a:rPr b="0" lang="en-US" sz="2200" spc="-1" strike="noStrike">
                <a:solidFill>
                  <a:srgbClr val="1a1a1a"/>
                </a:solidFill>
                <a:latin typeface="Open Sans"/>
              </a:rPr>
              <a:t>sensitive asthma</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for the shortest period of time at the lowest dos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1a1a1a"/>
                </a:solidFill>
                <a:latin typeface="Open Sans Light"/>
                <a:ea typeface="Open Sans Light"/>
              </a:rPr>
              <a:t>Opioid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um alkaloids derived from the opium </a:t>
            </a:r>
            <a:br>
              <a:rPr sz="2200"/>
            </a:br>
            <a:r>
              <a:rPr b="0" lang="en-US" sz="2200" spc="-1" strike="noStrike">
                <a:solidFill>
                  <a:srgbClr val="1a1a1a"/>
                </a:solidFill>
                <a:latin typeface="Open Sans"/>
              </a:rPr>
              <a:t>poppy has been used for pain relief for centuri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was isolated by Sertuner in 1813</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lass syringe was introduced in 1844</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nce then morphine has been the mainstay in the management 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term </a:t>
            </a:r>
            <a:r>
              <a:rPr b="1" lang="en-US" sz="2200" spc="-1" strike="noStrike">
                <a:solidFill>
                  <a:srgbClr val="1a1a1a"/>
                </a:solidFill>
                <a:latin typeface="Open Sans"/>
              </a:rPr>
              <a:t>“opioid”</a:t>
            </a:r>
            <a:r>
              <a:rPr b="0" lang="en-US" sz="2200" spc="-1" strike="noStrike">
                <a:solidFill>
                  <a:srgbClr val="1a1a1a"/>
                </a:solidFill>
                <a:latin typeface="Open Sans"/>
              </a:rPr>
              <a:t> is referred to any drug, either natural, semi-synthetic or fully synthetic, which has actions similar to morphine </a:t>
            </a:r>
            <a:endParaRPr b="0" lang="en-US" sz="2200" spc="-1" strike="noStrike">
              <a:solidFill>
                <a:srgbClr val="1a1a1a"/>
              </a:solidFill>
              <a:latin typeface="Open Sans"/>
            </a:endParaRPr>
          </a:p>
        </p:txBody>
      </p:sp>
      <p:pic>
        <p:nvPicPr>
          <p:cNvPr id="887" name="Picture 4" descr="poppypd[1]"/>
          <p:cNvPicPr/>
          <p:nvPr/>
        </p:nvPicPr>
        <p:blipFill>
          <a:blip r:embed="rId1"/>
          <a:stretch/>
        </p:blipFill>
        <p:spPr>
          <a:xfrm>
            <a:off x="7391520" y="152280"/>
            <a:ext cx="1371600" cy="160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vailable Opioids</a:t>
            </a:r>
            <a:endParaRPr b="0" lang="en-US" sz="3200" spc="-1" strike="noStrike">
              <a:solidFill>
                <a:srgbClr val="333333"/>
              </a:solidFill>
              <a:latin typeface="Open Sans Semibold"/>
            </a:endParaRPr>
          </a:p>
        </p:txBody>
      </p:sp>
      <p:sp>
        <p:nvSpPr>
          <p:cNvPr id="889" name=""/>
          <p:cNvSpPr txBox="1"/>
          <p:nvPr/>
        </p:nvSpPr>
        <p:spPr>
          <a:xfrm>
            <a:off x="777960" y="1387440"/>
            <a:ext cx="7586640" cy="4937040"/>
          </a:xfrm>
          <a:prstGeom prst="rect">
            <a:avLst/>
          </a:prstGeom>
          <a:noFill/>
          <a:ln w="0">
            <a:noFill/>
          </a:ln>
        </p:spPr>
        <p:txBody>
          <a:bodyPr lIns="0" rIns="0" tIns="0" bIns="0" anchor="t">
            <a:normAutofit fontScale="95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pioids on the WHO essential drug lis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rph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amadol </a:t>
            </a:r>
            <a:endParaRPr b="0" lang="en-US" sz="2000" spc="-1" strike="noStrike">
              <a:solidFill>
                <a:srgbClr val="1a1a1a"/>
              </a:solidFill>
              <a:latin typeface="Open Sans"/>
            </a:endParaRPr>
          </a:p>
        </p:txBody>
      </p:sp>
      <p:sp>
        <p:nvSpPr>
          <p:cNvPr id="890" name="TextBox 7"/>
          <p:cNvSpPr/>
          <p:nvPr/>
        </p:nvSpPr>
        <p:spPr>
          <a:xfrm>
            <a:off x="777960" y="1371600"/>
            <a:ext cx="243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Natura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or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odeine </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91" name="TextBox 8"/>
          <p:cNvSpPr/>
          <p:nvPr/>
        </p:nvSpPr>
        <p:spPr>
          <a:xfrm>
            <a:off x="2971800" y="1371600"/>
            <a:ext cx="2430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emi-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Hydromorph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xyco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Diacetylmorphine</a:t>
            </a:r>
            <a:br>
              <a:rPr sz="1800"/>
            </a:br>
            <a:r>
              <a:rPr b="0" lang="en-US" sz="1800" spc="-1" strike="noStrike">
                <a:solidFill>
                  <a:srgbClr val="1a1a1a"/>
                </a:solidFill>
                <a:latin typeface="Open Sans"/>
              </a:rPr>
              <a:t>(heroin) </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oxone (antagonist)</a:t>
            </a:r>
            <a:endParaRPr b="0" lang="en-US" sz="1800" spc="-1" strike="noStrike">
              <a:solidFill>
                <a:srgbClr val="1a1a1a"/>
              </a:solidFill>
              <a:latin typeface="Arial"/>
            </a:endParaRPr>
          </a:p>
        </p:txBody>
      </p:sp>
      <p:sp>
        <p:nvSpPr>
          <p:cNvPr id="892" name="TextBox 9"/>
          <p:cNvSpPr/>
          <p:nvPr/>
        </p:nvSpPr>
        <p:spPr>
          <a:xfrm>
            <a:off x="5934240" y="1371600"/>
            <a:ext cx="243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ully 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thidine (meperid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ramado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bu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etha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ntazoc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Fentany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l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Su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mi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can be classified as:</a:t>
            </a:r>
            <a:endParaRPr b="0" lang="en-US" sz="3200" spc="-1" strike="noStrike">
              <a:solidFill>
                <a:srgbClr val="333333"/>
              </a:solidFill>
              <a:latin typeface="Open Sans Semibold"/>
            </a:endParaRPr>
          </a:p>
        </p:txBody>
      </p:sp>
      <p:sp>
        <p:nvSpPr>
          <p:cNvPr id="894" name=""/>
          <p:cNvSpPr txBox="1"/>
          <p:nvPr/>
        </p:nvSpPr>
        <p:spPr>
          <a:xfrm>
            <a:off x="777960" y="1387440"/>
            <a:ext cx="7586640" cy="493704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trong opioids </a:t>
            </a:r>
            <a:r>
              <a:rPr b="0" lang="en-US" sz="2200" spc="-1" strike="noStrike">
                <a:solidFill>
                  <a:srgbClr val="1a1a1a"/>
                </a:solidFill>
                <a:latin typeface="Open Sans"/>
              </a:rPr>
              <a:t>used for </a:t>
            </a:r>
            <a:r>
              <a:rPr b="1" lang="en-US" sz="2200" spc="-1" strike="noStrike">
                <a:solidFill>
                  <a:srgbClr val="1a1a1a"/>
                </a:solidFill>
                <a:latin typeface="Open Sans"/>
              </a:rPr>
              <a:t>sever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Oxycodone, Pethidine, Fentany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1" lang="en-US" sz="2200" spc="-1" strike="noStrike">
                <a:solidFill>
                  <a:srgbClr val="1a1a1a"/>
                </a:solidFill>
                <a:latin typeface="Open Sans"/>
              </a:rPr>
              <a:t>Weak Opioids </a:t>
            </a:r>
            <a:r>
              <a:rPr b="0" lang="en-US" sz="2200" spc="-1" strike="noStrike">
                <a:solidFill>
                  <a:srgbClr val="1a1a1a"/>
                </a:solidFill>
                <a:latin typeface="Open Sans"/>
              </a:rPr>
              <a:t>used for </a:t>
            </a:r>
            <a:r>
              <a:rPr b="1" lang="en-US" sz="2200" spc="-1" strike="noStrike">
                <a:solidFill>
                  <a:srgbClr val="1a1a1a"/>
                </a:solidFill>
                <a:latin typeface="Open Sans"/>
              </a:rPr>
              <a:t>moderat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deine, Tramado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Picture 5" descr="Slide4"/>
          <p:cNvPicPr/>
          <p:nvPr/>
        </p:nvPicPr>
        <p:blipFill>
          <a:blip r:embed="rId1"/>
          <a:srcRect l="0" t="8308" r="0" b="30461"/>
          <a:stretch/>
        </p:blipFill>
        <p:spPr>
          <a:xfrm>
            <a:off x="1295280" y="1101600"/>
            <a:ext cx="6488280" cy="5738760"/>
          </a:xfrm>
          <a:prstGeom prst="rect">
            <a:avLst/>
          </a:prstGeom>
          <a:ln w="0">
            <a:noFill/>
          </a:ln>
        </p:spPr>
      </p:pic>
      <p:sp>
        <p:nvSpPr>
          <p:cNvPr id="896" name="Text Box 10"/>
          <p:cNvSpPr/>
          <p:nvPr/>
        </p:nvSpPr>
        <p:spPr>
          <a:xfrm>
            <a:off x="4038480" y="205740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ak opioids</a:t>
            </a:r>
            <a:endParaRPr b="0" lang="en-US" sz="1800" spc="-1" strike="noStrike">
              <a:solidFill>
                <a:srgbClr val="1a1a1a"/>
              </a:solidFill>
              <a:latin typeface="Arial"/>
            </a:endParaRPr>
          </a:p>
        </p:txBody>
      </p:sp>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The analgesic ladder for acute pain management</a:t>
            </a:r>
            <a:r>
              <a:rPr b="0" lang="en-US" sz="2900" spc="-1" strike="noStrike">
                <a:solidFill>
                  <a:srgbClr val="333333"/>
                </a:solidFill>
                <a:latin typeface="Open Sans Semibold"/>
              </a:rPr>
              <a:t> </a:t>
            </a:r>
            <a:br>
              <a:rPr sz="2900"/>
            </a:br>
            <a:endParaRPr b="0" lang="en-US" sz="2900" spc="-1" strike="noStrike">
              <a:solidFill>
                <a:srgbClr val="333333"/>
              </a:solidFill>
              <a:latin typeface="Open Sans Semibold"/>
            </a:endParaRPr>
          </a:p>
        </p:txBody>
      </p:sp>
      <p:sp>
        <p:nvSpPr>
          <p:cNvPr id="898" name="Text Box 9"/>
          <p:cNvSpPr/>
          <p:nvPr/>
        </p:nvSpPr>
        <p:spPr>
          <a:xfrm>
            <a:off x="5867280" y="107784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on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ct by binding to opioid receptors </a:t>
            </a:r>
            <a:br>
              <a:rPr sz="2200"/>
            </a:br>
            <a:r>
              <a:rPr b="0" lang="en-US" sz="2200" spc="-1" strike="noStrike">
                <a:solidFill>
                  <a:srgbClr val="1a1a1a"/>
                </a:solidFill>
                <a:latin typeface="Open Sans"/>
              </a:rPr>
              <a:t>(complex proteins embedded within the cell </a:t>
            </a:r>
            <a:br>
              <a:rPr sz="2200"/>
            </a:br>
            <a:r>
              <a:rPr b="0" lang="en-US" sz="2200" spc="-1" strike="noStrike">
                <a:solidFill>
                  <a:srgbClr val="1a1a1a"/>
                </a:solidFill>
                <a:latin typeface="Open Sans"/>
              </a:rPr>
              <a:t>membrane of neurons) </a:t>
            </a:r>
            <a:endParaRPr b="0" lang="en-US" sz="2200" spc="-1" strike="noStrike">
              <a:solidFill>
                <a:srgbClr val="1a1a1a"/>
              </a:solidFill>
              <a:latin typeface="Open Sans"/>
            </a:endParaRPr>
          </a:p>
        </p:txBody>
      </p:sp>
      <p:pic>
        <p:nvPicPr>
          <p:cNvPr id="901" name="Picture 3" descr="imagesCAXPF45K.jpg"/>
          <p:cNvPicPr/>
          <p:nvPr/>
        </p:nvPicPr>
        <p:blipFill>
          <a:blip r:embed="rId1"/>
          <a:stretch/>
        </p:blipFill>
        <p:spPr>
          <a:xfrm>
            <a:off x="762120" y="3048120"/>
            <a:ext cx="3560760" cy="2666880"/>
          </a:xfrm>
          <a:prstGeom prst="rect">
            <a:avLst/>
          </a:prstGeom>
          <a:ln w="0">
            <a:noFill/>
          </a:ln>
        </p:spPr>
      </p:pic>
      <p:sp>
        <p:nvSpPr>
          <p:cNvPr id="902" name="TextBox 4"/>
          <p:cNvSpPr/>
          <p:nvPr/>
        </p:nvSpPr>
        <p:spPr>
          <a:xfrm>
            <a:off x="685800" y="5867280"/>
            <a:ext cx="4495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pioid receptors are found in the brain and in the dorsal horn of the spinal cord</a:t>
            </a:r>
            <a:endParaRPr b="0" lang="en-US" sz="1800" spc="-1" strike="noStrike">
              <a:solidFill>
                <a:srgbClr val="1a1a1a"/>
              </a:solidFill>
              <a:latin typeface="Arial"/>
            </a:endParaRPr>
          </a:p>
        </p:txBody>
      </p:sp>
      <p:sp>
        <p:nvSpPr>
          <p:cNvPr id="903" name="TextBox 5"/>
          <p:cNvSpPr/>
          <p:nvPr/>
        </p:nvSpPr>
        <p:spPr>
          <a:xfrm>
            <a:off x="5029200" y="3124080"/>
            <a:ext cx="37339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Open Sans"/>
              </a:rPr>
              <a:t>There are three different opioid receptors - µ, </a:t>
            </a:r>
            <a:r>
              <a:rPr b="0" lang="el-GR" sz="2200" spc="-1" strike="noStrike">
                <a:solidFill>
                  <a:srgbClr val="1a1a1a"/>
                </a:solidFill>
                <a:latin typeface="Open Sans"/>
              </a:rPr>
              <a:t>δ</a:t>
            </a:r>
            <a:r>
              <a:rPr b="0" lang="en-US" sz="2200" spc="-1" strike="noStrike">
                <a:solidFill>
                  <a:srgbClr val="1a1a1a"/>
                </a:solidFill>
                <a:latin typeface="Open Sans"/>
              </a:rPr>
              <a:t>, </a:t>
            </a:r>
            <a:r>
              <a:rPr b="0" lang="el-GR" sz="2200" spc="-1" strike="noStrike">
                <a:solidFill>
                  <a:srgbClr val="1a1a1a"/>
                </a:solidFill>
                <a:latin typeface="Open Sans"/>
              </a:rPr>
              <a:t>κ</a:t>
            </a: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1a1a1a"/>
                </a:solidFill>
                <a:latin typeface="Open Sans"/>
              </a:rPr>
              <a:t>µ</a:t>
            </a:r>
            <a:r>
              <a:rPr b="0" lang="en-US" sz="2200" spc="-1" strike="noStrike">
                <a:solidFill>
                  <a:srgbClr val="1a1a1a"/>
                </a:solidFill>
                <a:latin typeface="Open Sans"/>
              </a:rPr>
              <a:t> - most relevant as all clinically used opioids exert their action via the </a:t>
            </a:r>
            <a:br>
              <a:rPr sz="2200"/>
            </a:br>
            <a:r>
              <a:rPr b="0" lang="en-US" sz="2200" spc="-1" strike="noStrike">
                <a:solidFill>
                  <a:srgbClr val="1a1a1a"/>
                </a:solidFill>
                <a:latin typeface="Open Sans"/>
              </a:rPr>
              <a:t>µ -opioid receptor</a:t>
            </a:r>
            <a:endParaRPr b="0" lang="en-US" sz="22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pioids bind to opioid receptor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tivate intracellular signaling even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eading to reduction in excitability of neurons and  inhibition of pain sign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ulting in reduction of pain perce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Opioids can be administered via several routes </a:t>
            </a:r>
            <a:endParaRPr b="0" lang="en-US" sz="29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1" lang="en-US" sz="2200" spc="-1" strike="noStrike">
                <a:solidFill>
                  <a:srgbClr val="1a1a1a"/>
                </a:solidFill>
                <a:latin typeface="Open Sans"/>
              </a:rPr>
              <a:t>Opioids produce potent analgesia when administe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ally – oral, Intravenous, intramuscular, subcutaneous, transcutaneous, per rectal</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ly – epidural, intrathecal, intraventricula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ime to peak action and duration of action depends on the route and dose of the dru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phine</a:t>
            </a: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the most widely used opioid for the control </a:t>
            </a:r>
            <a:br>
              <a:rPr sz="2200"/>
            </a:br>
            <a:r>
              <a:rPr b="0" lang="en-US" sz="2200" spc="-1" strike="noStrike">
                <a:solidFill>
                  <a:srgbClr val="1a1a1a"/>
                </a:solidFill>
                <a:latin typeface="Open Sans"/>
              </a:rPr>
              <a:t>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given by all the routes that was described in the previous sl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 and has a </a:t>
            </a:r>
            <a:br>
              <a:rPr sz="2200"/>
            </a:br>
            <a:r>
              <a:rPr b="0" lang="en-US" sz="2200" spc="-1" strike="noStrike">
                <a:solidFill>
                  <a:srgbClr val="1a1a1a"/>
                </a:solidFill>
                <a:latin typeface="Open Sans"/>
              </a:rPr>
              <a:t>bio-availability of around 30-35%.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Bio-availability</a:t>
            </a:r>
            <a:r>
              <a:rPr b="0" lang="en-US" sz="2200" spc="-1" strike="noStrike">
                <a:solidFill>
                  <a:srgbClr val="1a1a1a"/>
                </a:solidFill>
                <a:latin typeface="Open Sans"/>
              </a:rPr>
              <a:t> means the amount of drug that is available in the systemic circulation after an oral dose </a:t>
            </a:r>
            <a:br>
              <a:rPr sz="2200"/>
            </a:br>
            <a:r>
              <a:rPr b="0" lang="en-US" sz="2200" spc="-1" strike="noStrike">
                <a:solidFill>
                  <a:srgbClr val="1a1a1a"/>
                </a:solidFill>
                <a:latin typeface="Open Sans"/>
              </a:rPr>
              <a:t>is give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Pharmacology includ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chanism of A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 / Elimination of the dru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cation for use / dos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dverse /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y special precautions that should be tak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ral morphine </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mmediate release morphi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queous / liquid morphine (usually prepared </a:t>
            </a:r>
            <a:br>
              <a:rPr sz="2200"/>
            </a:br>
            <a:r>
              <a:rPr b="0" lang="en-US" sz="2200" spc="-1" strike="noStrike">
                <a:solidFill>
                  <a:srgbClr val="1a1a1a"/>
                </a:solidFill>
                <a:latin typeface="Open Sans"/>
              </a:rPr>
              <a:t>as 1-2 mg / ml)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morphine (1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be given every four hours for continuous relief of sever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ustained Release (SR) Morphine Tablet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released slowly over 12 hour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 mg, 30 mg, 6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tablets are given twice a day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renteral morphine </a:t>
            </a:r>
            <a:r>
              <a:rPr b="0" lang="en-US" sz="2200" spc="-1" strike="noStrike">
                <a:solidFill>
                  <a:srgbClr val="333333"/>
                </a:solidFill>
                <a:latin typeface="Open Sans Semibold"/>
              </a:rPr>
              <a:t>(10 mg / I ml ampoule)</a:t>
            </a:r>
            <a:br>
              <a:rPr sz="2900"/>
            </a:br>
            <a:endParaRPr b="0" lang="en-US" sz="2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muscular / subcutaneous morphi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set of Analgesia</a:t>
            </a:r>
            <a:r>
              <a:rPr b="0" lang="en-US" sz="2400" spc="-1" strike="noStrike">
                <a:solidFill>
                  <a:srgbClr val="1a1a1a"/>
                </a:solidFill>
                <a:latin typeface="Open Sans"/>
              </a:rPr>
              <a:t>	</a:t>
            </a:r>
            <a:r>
              <a:rPr b="0" lang="en-US" sz="2400" spc="-1" strike="noStrike">
                <a:solidFill>
                  <a:srgbClr val="1a1a1a"/>
                </a:solidFill>
                <a:latin typeface="Open Sans"/>
              </a:rPr>
              <a:t>15 - 20 mi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ak action </a:t>
            </a:r>
            <a:r>
              <a:rPr b="0" lang="en-US" sz="2400" spc="-1" strike="noStrike">
                <a:solidFill>
                  <a:srgbClr val="1a1a1a"/>
                </a:solidFill>
                <a:latin typeface="Open Sans"/>
              </a:rPr>
              <a:t>	</a:t>
            </a:r>
            <a:r>
              <a:rPr b="0" lang="en-US" sz="2400" spc="-1" strike="noStrike">
                <a:solidFill>
                  <a:srgbClr val="1a1a1a"/>
                </a:solidFill>
                <a:latin typeface="Open Sans"/>
              </a:rPr>
              <a:t>	</a:t>
            </a:r>
            <a:r>
              <a:rPr b="0" lang="en-US" sz="2400" spc="-1" strike="noStrike">
                <a:solidFill>
                  <a:srgbClr val="1a1a1a"/>
                </a:solidFill>
                <a:latin typeface="Open Sans"/>
              </a:rPr>
              <a:t>45 - 90 m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uration of action </a:t>
            </a:r>
            <a:r>
              <a:rPr b="0" lang="en-US" sz="2400" spc="-1" strike="noStrike">
                <a:solidFill>
                  <a:srgbClr val="1a1a1a"/>
                </a:solidFill>
                <a:latin typeface="Open Sans"/>
              </a:rPr>
              <a:t>	</a:t>
            </a:r>
            <a:r>
              <a:rPr b="0" lang="en-US" sz="2400" spc="-1" strike="noStrike">
                <a:solidFill>
                  <a:srgbClr val="1a1a1a"/>
                </a:solidFill>
                <a:latin typeface="Open Sans"/>
              </a:rPr>
              <a:t>4 hour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venous route is chosen when rapid control of severe pain is desir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 </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inciple pathway of metabolism is conjugation with glucuronic acid in hepatic and extra-hepatic (kidney) si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3 and morphine -6 glucuronides that are excreted mainly by the kidney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should be used with caution in patients with hepatic and renal impair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deine phosphate – Weak opioid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tablet 15mg; 30 mg</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well absorbed and there is no first pass metabolism </a:t>
            </a:r>
            <a:br>
              <a:rPr sz="2000"/>
            </a:br>
            <a:r>
              <a:rPr b="0" lang="en-US" sz="2000" spc="-1" strike="noStrike">
                <a:solidFill>
                  <a:srgbClr val="1a1a1a"/>
                </a:solidFill>
                <a:latin typeface="Open Sans"/>
              </a:rPr>
              <a:t>in the liver</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 is metabolized to morphine; which accounts for </a:t>
            </a:r>
            <a:br>
              <a:rPr sz="2000"/>
            </a:br>
            <a:r>
              <a:rPr b="0" lang="en-US" sz="2000" spc="-1" strike="noStrike">
                <a:solidFill>
                  <a:srgbClr val="1a1a1a"/>
                </a:solidFill>
                <a:latin typeface="Open Sans"/>
              </a:rPr>
              <a:t>its analgesic effect</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60 mg of codeine has an equi-analgesic effect </a:t>
            </a:r>
            <a:br>
              <a:rPr sz="2000"/>
            </a:br>
            <a:r>
              <a:rPr b="0" lang="en-US" sz="2000" spc="-1" strike="noStrike">
                <a:solidFill>
                  <a:srgbClr val="1a1a1a"/>
                </a:solidFill>
                <a:latin typeface="Open Sans"/>
              </a:rPr>
              <a:t>of 650 mg aspir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as an anti-tussive effect and is often used in cough mixtures</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vailable in combination with paracetamol</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use minimal sedation, nausea, vomiting and constipation</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 – Weak opioid</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is is also known as an “atypical opioid”</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has a dual 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eak opioid receptor binding propertie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serotonin and noradrenaline at the descending inhibitory pathway</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capsule (50 mg)</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jection – 50 mg / ml – in 2 ml ampoules</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e to its weak opioid activity it is not placed in the same schedule as the strong opioids such as morphin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ime to effect is around 30 minutes and can last </a:t>
            </a:r>
            <a:br>
              <a:rPr sz="2200"/>
            </a:br>
            <a:r>
              <a:rPr b="0" lang="en-US" sz="2200" spc="-1" strike="noStrike">
                <a:solidFill>
                  <a:srgbClr val="1a1a1a"/>
                </a:solidFill>
                <a:latin typeface="Open Sans"/>
              </a:rPr>
              <a:t>5 - 6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 is minim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cause nausea, vomiting,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use potential is minima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used as a weak opioid, however as it has a dual mechanism of action – its analgesic efficacy is superior to codeine – Maximum daily dose is 400 mg</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a:t>
            </a:r>
            <a:r>
              <a:rPr b="0" lang="en-US" sz="3200" spc="-1" strike="noStrike">
                <a:solidFill>
                  <a:srgbClr val="333333"/>
                </a:solidFill>
                <a:latin typeface="Open Sans Semibold"/>
              </a:rPr>
              <a:t>	</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9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is metabolized by the liver and excreted </a:t>
            </a:r>
            <a:br>
              <a:rPr sz="2200"/>
            </a:br>
            <a:r>
              <a:rPr b="0" lang="en-US" sz="2200" spc="-1" strike="noStrike">
                <a:solidFill>
                  <a:srgbClr val="1a1a1a"/>
                </a:solidFill>
                <a:latin typeface="Open Sans"/>
              </a:rPr>
              <a:t>by the kidney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has an active metabolite </a:t>
            </a:r>
            <a:br>
              <a:rPr sz="2200"/>
            </a:br>
            <a:r>
              <a:rPr b="0" lang="en-US" sz="2200" spc="-1" strike="noStrike">
                <a:solidFill>
                  <a:srgbClr val="1a1a1a"/>
                </a:solidFill>
                <a:latin typeface="Open Sans"/>
              </a:rPr>
              <a:t>(O-desmethyltramadol) – that is also excreted </a:t>
            </a:r>
            <a:br>
              <a:rPr sz="2200"/>
            </a:br>
            <a:r>
              <a:rPr b="0" lang="en-US" sz="2200" spc="-1" strike="noStrike">
                <a:solidFill>
                  <a:srgbClr val="1a1a1a"/>
                </a:solidFill>
                <a:latin typeface="Open Sans"/>
              </a:rPr>
              <a:t>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aily dose should be reduced in the presence of chronic renal failur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strointestin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usea and vomit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piratory depression in over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uritu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gh suppression (anti-tuss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 initiation of opioid therapy, patients frequently report acute side effects of sedation, dizziness, </a:t>
            </a:r>
            <a:br>
              <a:rPr sz="2200"/>
            </a:br>
            <a:r>
              <a:rPr b="0" lang="en-US" sz="2200" spc="-1" strike="noStrike">
                <a:solidFill>
                  <a:srgbClr val="1a1a1a"/>
                </a:solidFill>
                <a:latin typeface="Open Sans"/>
              </a:rPr>
              <a:t>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fter a few days these symptoms subside except </a:t>
            </a:r>
            <a:br>
              <a:rPr sz="2200"/>
            </a:br>
            <a:r>
              <a:rPr b="0" lang="en-US" sz="2200" spc="-1" strike="noStrike">
                <a:solidFill>
                  <a:srgbClr val="1a1a1a"/>
                </a:solidFill>
                <a:latin typeface="Open Sans"/>
              </a:rPr>
              <a:t>for constip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noted in patients with 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and Tolerance </a:t>
            </a:r>
            <a:endParaRPr b="0" lang="en-US" sz="3200" spc="-1" strike="noStrike">
              <a:solidFill>
                <a:srgbClr val="333333"/>
              </a:solidFill>
              <a:latin typeface="Open Sans Semibold"/>
            </a:endParaRPr>
          </a:p>
        </p:txBody>
      </p:sp>
      <p:sp>
        <p:nvSpPr>
          <p:cNvPr id="92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tients can develop tolerance when opioids are used </a:t>
            </a:r>
            <a:br>
              <a:rPr sz="2000"/>
            </a:br>
            <a:r>
              <a:rPr b="0" lang="en-US" sz="2000" spc="-1" strike="noStrike">
                <a:solidFill>
                  <a:srgbClr val="1a1a1a"/>
                </a:solidFill>
                <a:latin typeface="Open Sans"/>
              </a:rPr>
              <a:t>for an extended period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cancer pain; intensive care unit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olerance</a:t>
            </a:r>
            <a:r>
              <a:rPr b="0" lang="en-US" sz="2000" spc="-1" strike="noStrike">
                <a:solidFill>
                  <a:srgbClr val="1a1a1a"/>
                </a:solidFill>
                <a:latin typeface="Open Sans"/>
              </a:rPr>
              <a:t> is defined as reduction of the pharmacological </a:t>
            </a:r>
            <a:br>
              <a:rPr sz="2000"/>
            </a:br>
            <a:r>
              <a:rPr b="0" lang="en-US" sz="2000" spc="-1" strike="noStrike">
                <a:solidFill>
                  <a:srgbClr val="1a1a1a"/>
                </a:solidFill>
                <a:latin typeface="Open Sans"/>
              </a:rPr>
              <a:t>effect of an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same dose produces a lesser effec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creasing doses of drug is required to produce </a:t>
            </a:r>
            <a:br>
              <a:rPr sz="2000"/>
            </a:br>
            <a:r>
              <a:rPr b="0" lang="en-US" sz="2000" spc="-1" strike="noStrike">
                <a:solidFill>
                  <a:srgbClr val="1a1a1a"/>
                </a:solidFill>
                <a:latin typeface="Open Sans"/>
              </a:rPr>
              <a:t>the same effec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mechanisms of the development of tolerance </a:t>
            </a:r>
            <a:br>
              <a:rPr sz="2000"/>
            </a:br>
            <a:r>
              <a:rPr b="0" lang="en-US" sz="2000" spc="-1" strike="noStrike">
                <a:solidFill>
                  <a:srgbClr val="1a1a1a"/>
                </a:solidFill>
                <a:latin typeface="Open Sans"/>
              </a:rPr>
              <a:t>are complex</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racetamol </a:t>
            </a:r>
            <a:endParaRPr b="0" lang="en-US" sz="3200" spc="-1" strike="noStrike">
              <a:solidFill>
                <a:srgbClr val="333333"/>
              </a:solidFill>
              <a:latin typeface="Open Sans Semibold"/>
            </a:endParaRPr>
          </a:p>
        </p:txBody>
      </p:sp>
      <p:sp>
        <p:nvSpPr>
          <p:cNvPr id="760"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has been in use for more </a:t>
            </a:r>
            <a:br>
              <a:rPr sz="2000"/>
            </a:br>
            <a:r>
              <a:rPr b="0" lang="en-US" sz="2000" spc="-1" strike="noStrike">
                <a:solidFill>
                  <a:srgbClr val="1a1a1a"/>
                </a:solidFill>
                <a:latin typeface="Open Sans"/>
              </a:rPr>
              <a:t>than a centur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has both analgesic and antipyretic ac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owever, the exact mechanism of its action is unclear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Absorption / Elimination from the bod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is well tolerated when taken orall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On oral administration it is absorbed from the intestine (70%), stomach and colon (3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ate of absorption is rapid and depends on the dose</a:t>
            </a:r>
            <a:endParaRPr b="0" lang="en-US" sz="2000" spc="-1" strike="noStrike">
              <a:solidFill>
                <a:srgbClr val="1a1a1a"/>
              </a:solidFill>
              <a:latin typeface="Open Sans"/>
            </a:endParaRPr>
          </a:p>
        </p:txBody>
      </p:sp>
      <p:pic>
        <p:nvPicPr>
          <p:cNvPr id="761" name="Picture 4" descr="paracetamol-tablets-784169-250x250[1]"/>
          <p:cNvPicPr/>
          <p:nvPr/>
        </p:nvPicPr>
        <p:blipFill>
          <a:blip r:embed="rId1"/>
          <a:stretch/>
        </p:blipFill>
        <p:spPr>
          <a:xfrm>
            <a:off x="6553080" y="152280"/>
            <a:ext cx="1676520" cy="140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and Addiction</a:t>
            </a:r>
            <a:endParaRPr b="0" lang="en-US" sz="3200" spc="-1" strike="noStrike">
              <a:solidFill>
                <a:srgbClr val="333333"/>
              </a:solidFill>
              <a:latin typeface="Open Sans Semibold"/>
            </a:endParaRPr>
          </a:p>
        </p:txBody>
      </p:sp>
      <p:sp>
        <p:nvSpPr>
          <p:cNvPr id="93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 dependence</a:t>
            </a:r>
            <a:r>
              <a:rPr b="0" lang="en-US" sz="2200" spc="-1" strike="noStrike">
                <a:solidFill>
                  <a:srgbClr val="1a1a1a"/>
                </a:solidFill>
                <a:latin typeface="Open Sans"/>
              </a:rPr>
              <a:t> is a state of adaptation by the body with extended use of an opioid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manifested by withdrawal symptoms with abrupt cessation of the opioid, rapid dose reduction or administration of an opioid antagon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ddiction</a:t>
            </a:r>
            <a:r>
              <a:rPr b="0" lang="en-US" sz="2200" spc="-1" strike="noStrike">
                <a:solidFill>
                  <a:srgbClr val="1a1a1a"/>
                </a:solidFill>
                <a:latin typeface="Open Sans"/>
              </a:rPr>
              <a:t> to opioids is </a:t>
            </a:r>
            <a:r>
              <a:rPr b="1" lang="en-US" sz="2200" spc="-1" strike="noStrike">
                <a:solidFill>
                  <a:srgbClr val="1a1a1a"/>
                </a:solidFill>
                <a:latin typeface="Open Sans"/>
              </a:rPr>
              <a:t>drug seeking behaviour </a:t>
            </a:r>
            <a:r>
              <a:rPr b="0" lang="en-US" sz="2200" spc="-1" strike="noStrike">
                <a:solidFill>
                  <a:srgbClr val="1a1a1a"/>
                </a:solidFill>
                <a:latin typeface="Open Sans"/>
              </a:rPr>
              <a:t>where the person is looking for opioids for its euphoric action rather than pain relief alon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Ketamine – is on the WHO essential drug list</a:t>
            </a:r>
            <a:endParaRPr b="0" lang="en-US" sz="29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 phencyclidine derivat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been used to provide anaesthesia for many yea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side effect of hallucinations has limited its use as an anaesthet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 causes an increase in blood pressure and heart rate, hence it is used as an induction agent when a patient is in shock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multiple mechanisms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in mechanism of action is that of a </a:t>
            </a:r>
            <a:r>
              <a:rPr b="1" lang="en-US" sz="2200" spc="-1" strike="noStrike">
                <a:solidFill>
                  <a:srgbClr val="1a1a1a"/>
                </a:solidFill>
                <a:latin typeface="Open Sans"/>
              </a:rPr>
              <a:t>non-competitive antagonist at the NMDA recep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a:t>
            </a:r>
            <a:endParaRPr b="0" lang="en-US" sz="3200" spc="-1" strike="noStrike">
              <a:solidFill>
                <a:srgbClr val="333333"/>
              </a:solidFill>
              <a:latin typeface="Open Sans Semibold"/>
            </a:endParaRPr>
          </a:p>
        </p:txBody>
      </p:sp>
      <p:sp>
        <p:nvSpPr>
          <p:cNvPr id="93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venou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muscular / Subcutaneous (onset – 10 - 15 m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bioavailability 20%) / </a:t>
            </a:r>
            <a:br>
              <a:rPr sz="2200"/>
            </a:br>
            <a:r>
              <a:rPr b="0" lang="en-US" sz="2200" spc="-1" strike="noStrike">
                <a:solidFill>
                  <a:srgbClr val="1a1a1a"/>
                </a:solidFill>
                <a:latin typeface="Open Sans"/>
              </a:rPr>
              <a:t>sublingual (30%) / rectal (3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etabolized by the liv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tes are about 1/5</a:t>
            </a:r>
            <a:r>
              <a:rPr b="0" lang="en-US" sz="2200" spc="-1" strike="noStrike" baseline="30000">
                <a:solidFill>
                  <a:srgbClr val="1a1a1a"/>
                </a:solidFill>
                <a:latin typeface="Open Sans"/>
              </a:rPr>
              <a:t>th</a:t>
            </a:r>
            <a:r>
              <a:rPr b="0" lang="en-US" sz="2200" spc="-1" strike="noStrike">
                <a:solidFill>
                  <a:srgbClr val="1a1a1a"/>
                </a:solidFill>
                <a:latin typeface="Open Sans"/>
              </a:rPr>
              <a:t> as potent as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82994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has potent analgesic properties</a:t>
            </a:r>
            <a:endParaRPr b="0" lang="en-US" sz="3200" spc="-1" strike="noStrike">
              <a:solidFill>
                <a:srgbClr val="333333"/>
              </a:solidFill>
              <a:latin typeface="Open Sans Semibold"/>
            </a:endParaRPr>
          </a:p>
        </p:txBody>
      </p:sp>
      <p:sp>
        <p:nvSpPr>
          <p:cNvPr id="9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dose ketamine – 0.1 - 0.5 mg / kg / hr can provide excellent analgesia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reduce opioid requirements in the postoperative perio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used for the management of neuropathic pain such as in patients with complex regional pain syndr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an adjunct for the relief of cancer pain, particularly for the neuropathic compon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t>
            </a:r>
            <a:endParaRPr b="0" lang="en-US" sz="3200" spc="-1" strike="noStrike">
              <a:solidFill>
                <a:srgbClr val="333333"/>
              </a:solidFill>
              <a:latin typeface="Open Sans Semibold"/>
            </a:endParaRPr>
          </a:p>
        </p:txBody>
      </p:sp>
      <p:sp>
        <p:nvSpPr>
          <p:cNvPr id="93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mg / kg – IM can be used for painful dressing </a:t>
            </a:r>
            <a:br>
              <a:rPr sz="2200"/>
            </a:br>
            <a:r>
              <a:rPr b="0" lang="en-US" sz="2200" spc="-1" strike="noStrike">
                <a:solidFill>
                  <a:srgbClr val="1a1a1a"/>
                </a:solidFill>
                <a:latin typeface="Open Sans"/>
              </a:rPr>
              <a:t>change in childr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n anti-sialagogue should be added as it causes salivary secretions that can cause coughing / laryngospasm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of ketamine</a:t>
            </a:r>
            <a:endParaRPr b="0" lang="en-US" sz="3200" spc="-1" strike="noStrike">
              <a:solidFill>
                <a:srgbClr val="333333"/>
              </a:solidFill>
              <a:latin typeface="Open Sans Semibold"/>
            </a:endParaRPr>
          </a:p>
        </p:txBody>
      </p:sp>
      <p:sp>
        <p:nvSpPr>
          <p:cNvPr id="94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zzines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allucin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e delirium when larger doses ar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zodiazepines can reduce the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vary secre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sialagogues should be used with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nd drug abuse</a:t>
            </a:r>
            <a:endParaRPr b="0" lang="en-US" sz="3200" spc="-1" strike="noStrike">
              <a:solidFill>
                <a:srgbClr val="333333"/>
              </a:solidFill>
              <a:latin typeface="Open Sans Semibold"/>
            </a:endParaRPr>
          </a:p>
        </p:txBody>
      </p:sp>
      <p:sp>
        <p:nvSpPr>
          <p:cNvPr id="9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recent years, ketamine has been known to be </a:t>
            </a:r>
            <a:br>
              <a:rPr sz="2200"/>
            </a:br>
            <a:r>
              <a:rPr b="0" lang="en-US" sz="2200" spc="-1" strike="noStrike">
                <a:solidFill>
                  <a:srgbClr val="1a1a1a"/>
                </a:solidFill>
                <a:latin typeface="Open Sans"/>
              </a:rPr>
              <a:t>abused for its “euphor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ng term use can lead to cognitive impairment </a:t>
            </a:r>
            <a:br>
              <a:rPr sz="2200"/>
            </a:br>
            <a:r>
              <a:rPr b="0" lang="en-US" sz="2200" spc="-1" strike="noStrike">
                <a:solidFill>
                  <a:srgbClr val="1a1a1a"/>
                </a:solidFill>
                <a:latin typeface="Open Sans"/>
              </a:rPr>
              <a:t>and memory los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946" name=""/>
          <p:cNvSpPr txBox="1"/>
          <p:nvPr/>
        </p:nvSpPr>
        <p:spPr>
          <a:xfrm>
            <a:off x="762120" y="1904760"/>
            <a:ext cx="7586640" cy="2346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defined as pain that arises as a result of injury </a:t>
            </a:r>
            <a:br>
              <a:rPr sz="2200"/>
            </a:br>
            <a:r>
              <a:rPr b="0" lang="en-US" sz="2200" spc="-1" strike="noStrike">
                <a:solidFill>
                  <a:srgbClr val="1a1a1a"/>
                </a:solidFill>
                <a:latin typeface="Open Sans"/>
              </a:rPr>
              <a:t>or disease of the somatosensory syste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is not responsive to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ly responsive to Opioid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rugs used for treating neuropathic pain</a:t>
            </a:r>
            <a:endParaRPr b="0" lang="en-US" sz="3200" spc="-1" strike="noStrike">
              <a:solidFill>
                <a:srgbClr val="333333"/>
              </a:solidFill>
              <a:latin typeface="Open Sans Semibold"/>
            </a:endParaRPr>
          </a:p>
        </p:txBody>
      </p:sp>
      <p:sp>
        <p:nvSpPr>
          <p:cNvPr id="948" name=""/>
          <p:cNvSpPr txBox="1"/>
          <p:nvPr/>
        </p:nvSpPr>
        <p:spPr>
          <a:xfrm>
            <a:off x="762120" y="1599840"/>
            <a:ext cx="7586640" cy="24224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dium valpro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bapentinoids (not on the WHO essential drug l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time taken to reach maximum plasma concentration (Tmax) is 15 - 30 minutes depends on the prepar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s tablets (adults), suspension </a:t>
            </a:r>
            <a:br>
              <a:rPr sz="2000"/>
            </a:br>
            <a:r>
              <a:rPr b="0" lang="en-US" sz="2000" spc="-1" strike="noStrike">
                <a:solidFill>
                  <a:srgbClr val="1a1a1a"/>
                </a:solidFill>
                <a:latin typeface="Open Sans"/>
              </a:rPr>
              <a:t>or syrup for children and suppositorie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max is 2 - 3 hours with suppositorie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ioavailability ranges from 60-9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limin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is metabolized in the liver and only 2 - 5% is excreted unchanged</a:t>
            </a:r>
            <a:endParaRPr b="0" lang="en-US" sz="2000" spc="-1" strike="noStrike">
              <a:solidFill>
                <a:srgbClr val="1a1a1a"/>
              </a:solidFill>
              <a:latin typeface="Open Sans"/>
            </a:endParaRPr>
          </a:p>
        </p:txBody>
      </p:sp>
      <p:pic>
        <p:nvPicPr>
          <p:cNvPr id="764" name="Picture 4" descr="Paracetamol syrup"/>
          <p:cNvPicPr/>
          <p:nvPr/>
        </p:nvPicPr>
        <p:blipFill>
          <a:blip r:embed="rId1"/>
          <a:stretch/>
        </p:blipFill>
        <p:spPr>
          <a:xfrm>
            <a:off x="7848720" y="2133720"/>
            <a:ext cx="1143000" cy="1143000"/>
          </a:xfrm>
          <a:prstGeom prst="rect">
            <a:avLst/>
          </a:prstGeom>
          <a:ln w="0">
            <a:noFill/>
          </a:ln>
        </p:spPr>
      </p:pic>
      <p:pic>
        <p:nvPicPr>
          <p:cNvPr id="765" name="Picture 5" descr="suppository-2_1[1]"/>
          <p:cNvPicPr/>
          <p:nvPr/>
        </p:nvPicPr>
        <p:blipFill>
          <a:blip r:embed="rId2"/>
          <a:stretch/>
        </p:blipFill>
        <p:spPr>
          <a:xfrm>
            <a:off x="6400800" y="2666880"/>
            <a:ext cx="1219320" cy="586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mitriptyline</a:t>
            </a:r>
            <a:endParaRPr b="0" lang="en-US" sz="3200" spc="-1" strike="noStrike">
              <a:solidFill>
                <a:srgbClr val="333333"/>
              </a:solidFill>
              <a:latin typeface="Open Sans Semibold"/>
            </a:endParaRPr>
          </a:p>
        </p:txBody>
      </p:sp>
      <p:sp>
        <p:nvSpPr>
          <p:cNvPr id="950"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 tri-cyclic anti-depressant drug</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d more for the management of </a:t>
            </a:r>
            <a:r>
              <a:rPr b="1" lang="en-US" sz="2000" spc="-1" strike="noStrike">
                <a:solidFill>
                  <a:srgbClr val="1a1a1a"/>
                </a:solidFill>
                <a:latin typeface="Open Sans"/>
              </a:rPr>
              <a:t>neuropathic pain </a:t>
            </a:r>
            <a:r>
              <a:rPr b="0" lang="en-US" sz="2000" spc="-1" strike="noStrike">
                <a:solidFill>
                  <a:srgbClr val="1a1a1a"/>
                </a:solidFill>
                <a:latin typeface="Open Sans"/>
              </a:rPr>
              <a:t>than for symptoms of depressio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w dose amitryptyline is a first line drug for </a:t>
            </a:r>
            <a:br>
              <a:rPr sz="2000"/>
            </a:br>
            <a:r>
              <a:rPr b="0" lang="en-US" sz="2000" spc="-1" strike="noStrike">
                <a:solidFill>
                  <a:srgbClr val="1a1a1a"/>
                </a:solidFill>
                <a:latin typeface="Open Sans"/>
              </a:rPr>
              <a:t>neuropathic pai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a:t>
            </a:r>
            <a:r>
              <a:rPr b="1" lang="en-US" sz="2000" spc="-1" strike="noStrike">
                <a:solidFill>
                  <a:srgbClr val="1a1a1a"/>
                </a:solidFill>
                <a:latin typeface="Open Sans"/>
              </a:rPr>
              <a:t>noradrenaline and serotonin</a:t>
            </a:r>
            <a:r>
              <a:rPr b="0" lang="en-US" sz="2000" spc="-1" strike="noStrike">
                <a:solidFill>
                  <a:srgbClr val="1a1a1a"/>
                </a:solidFill>
                <a:latin typeface="Open Sans"/>
              </a:rPr>
              <a:t> (thus increasing these two neurotransmitters) at the descending inhibitory pathway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e descending inhibitory tract influences the output of the neurons in the dorsal horn of the spinal cord</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5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 is well absorbed on o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oavailability 30 - 6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ects last 2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de-methylation) and excreted in the urin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95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y mouth, disturbances of visual accommod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nd urinary reten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ht-headedness, drowsines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common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hythmias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US" sz="2200" spc="-1" strike="noStrike">
                <a:solidFill>
                  <a:srgbClr val="1a1a1a"/>
                </a:solidFill>
                <a:latin typeface="Open Sans"/>
              </a:rPr>
              <a:t>It should be used cautiously in the elderly and in those with a history of cardiovascular disea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bamazepine </a:t>
            </a:r>
            <a:endParaRPr b="0" lang="en-US" sz="3200" spc="-1" strike="noStrike">
              <a:solidFill>
                <a:srgbClr val="333333"/>
              </a:solidFill>
              <a:latin typeface="Open Sans Semibold"/>
            </a:endParaRPr>
          </a:p>
        </p:txBody>
      </p:sp>
      <p:sp>
        <p:nvSpPr>
          <p:cNvPr id="956"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n antiepileptic drug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currently the drug of choice for the management of pain in patients with </a:t>
            </a:r>
            <a:r>
              <a:rPr b="1" lang="en-US" sz="2200" spc="-1" strike="noStrike">
                <a:solidFill>
                  <a:srgbClr val="1a1a1a"/>
                </a:solidFill>
                <a:latin typeface="Open Sans"/>
              </a:rPr>
              <a:t>trigeminal neuralgia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blocks the frequency and use of the voltage-gated neuronal sodium channe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s repetitive firing action of action potential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proliferation of sodium channels when there is nerve injury – thus the efficacy of carbamazepine in patients with neuropathic pa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958"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ost common side effects are neurotoxic and dose-related. They includ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owsiness, diplopia, headache, ataxia, nausea</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omiting, dizzines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side effects tend to occur within a week of initiation or dosage increase.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hronic therapy, they typically are noticeable </a:t>
            </a:r>
            <a:br>
              <a:rPr sz="2200"/>
            </a:br>
            <a:r>
              <a:rPr b="0" lang="en-US" sz="2200" spc="-1" strike="noStrike">
                <a:solidFill>
                  <a:srgbClr val="1a1a1a"/>
                </a:solidFill>
                <a:latin typeface="Open Sans"/>
              </a:rPr>
              <a:t>3 - 4 hours after a dose (associated with peak serum concentra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 effec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dominal pain, diarrhea, hyponatraemia in the elderl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rious side effects</a:t>
            </a:r>
            <a:endParaRPr b="0" lang="en-US" sz="3200" spc="-1" strike="noStrike">
              <a:solidFill>
                <a:srgbClr val="333333"/>
              </a:solidFill>
              <a:latin typeface="Open Sans Semibold"/>
            </a:endParaRPr>
          </a:p>
        </p:txBody>
      </p:sp>
      <p:sp>
        <p:nvSpPr>
          <p:cNvPr id="9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ea typeface="ＭＳ Ｐゴシック"/>
              </a:rPr>
              <a:t>Agranulocytosis and aplastic anaem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kin eruptions and life threatening Steven-Johnson’s syndrome</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lood tests should be done early in the course of therapy and patients should be asked to report easy brui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raction with other drugs</a:t>
            </a:r>
            <a:endParaRPr b="0" lang="en-US" sz="3200" spc="-1" strike="noStrike">
              <a:solidFill>
                <a:srgbClr val="333333"/>
              </a:solidFill>
              <a:latin typeface="Open Sans Semibold"/>
            </a:endParaRPr>
          </a:p>
        </p:txBody>
      </p:sp>
      <p:sp>
        <p:nvSpPr>
          <p:cNvPr id="962"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 is an inducer of CYP450 in the liver</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of other drugs are reduced notably e.g.</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arfar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enyto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lproic acid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drugs reduce the metabolism of carbamazepine and therefore increase its plasma level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rythromyc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metid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um channel blocke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ocal Anaesthetics (LA)</a:t>
            </a:r>
            <a:endParaRPr b="0" lang="en-US" sz="3200" spc="-1" strike="noStrike">
              <a:solidFill>
                <a:srgbClr val="333333"/>
              </a:solidFill>
              <a:latin typeface="Open Sans Semibold"/>
            </a:endParaRPr>
          </a:p>
        </p:txBody>
      </p:sp>
      <p:sp>
        <p:nvSpPr>
          <p:cNvPr id="96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ignocaine (short acting) </a:t>
            </a:r>
            <a:r>
              <a:rPr b="0" lang="en-US" sz="2000" spc="-1" strike="noStrike">
                <a:solidFill>
                  <a:srgbClr val="1a1a1a"/>
                </a:solidFill>
                <a:latin typeface="Open Sans"/>
              </a:rPr>
              <a:t>–</a:t>
            </a:r>
            <a:r>
              <a:rPr b="0" lang="en-US" sz="2200" spc="-1" strike="noStrike">
                <a:solidFill>
                  <a:srgbClr val="1a1a1a"/>
                </a:solidFill>
                <a:latin typeface="Open Sans"/>
              </a:rPr>
              <a:t> 0.5%, 1.0%, 2.0% solu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upivacaine (long acting)</a:t>
            </a:r>
            <a:r>
              <a:rPr b="0" lang="en-US" sz="2000" spc="-1" strike="noStrike">
                <a:solidFill>
                  <a:srgbClr val="1a1a1a"/>
                </a:solidFill>
                <a:latin typeface="Open Sans"/>
              </a:rPr>
              <a:t> –</a:t>
            </a:r>
            <a:r>
              <a:rPr b="0" lang="en-US" sz="2200" spc="-1" strike="noStrike">
                <a:solidFill>
                  <a:srgbClr val="1a1a1a"/>
                </a:solidFill>
                <a:latin typeface="Open Sans"/>
              </a:rPr>
              <a:t> 0.5%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oth belong to the amide group of LA drug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A drugs act by producing a reversible block to the transmission of peripheral nerve impuls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e. they block membrane depolarization of all excitable tissue, in particular the nerv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action is on the sodium channels of the peripheral nerv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 drugs</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provide both surgical anaesthesia and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s on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entration of the drug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ommon 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infil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nerve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lexus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pidu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6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drugs are absorbed into the systemic circulation from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te of absorption depends on the s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tion of adrenaline can delay absorp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bsorption, they are distributed rapidly and taken up by orga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and excreted 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cross the placenta, but their effects are of minimal significanc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nd dosages</a:t>
            </a:r>
            <a:endParaRPr b="0" lang="en-US" sz="3200" spc="-1" strike="noStrike">
              <a:solidFill>
                <a:srgbClr val="333333"/>
              </a:solidFill>
              <a:latin typeface="Open Sans Semibold"/>
            </a:endParaRPr>
          </a:p>
        </p:txBody>
      </p:sp>
      <p:sp>
        <p:nvSpPr>
          <p:cNvPr id="7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used as an analgesic drug for mild to moderate pa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Tooth ache / teething pain in children, backpain, joint and muscle pain, headache, dysmenorrhoea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fever in adults and childre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Dosage</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Adults – Up to 1g oral / rectal, every 6 hours ( 4g should not be exceeded / da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ildren – Oral / rectal  20 mg / kg – every 6 hours                </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a:t>
            </a:r>
            <a:endParaRPr b="0" lang="en-US" sz="3200" spc="-1" strike="noStrike">
              <a:solidFill>
                <a:srgbClr val="333333"/>
              </a:solidFill>
              <a:latin typeface="Open Sans Semibold"/>
            </a:endParaRPr>
          </a:p>
        </p:txBody>
      </p:sp>
      <p:sp>
        <p:nvSpPr>
          <p:cNvPr id="9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significant amounts of LA drugs are absorbed they can cause toxicity :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rvous system: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mbness and tingling over the circumoral area</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xiety, Light-headedness, tinnitu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ss of consciousness and convul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r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rect myocardial depression and hypotens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sodilatat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es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can occur due to:</a:t>
            </a:r>
            <a:endParaRPr b="0" lang="en-US" sz="3200" spc="-1" strike="noStrike">
              <a:solidFill>
                <a:srgbClr val="333333"/>
              </a:solidFill>
              <a:latin typeface="Open Sans Semibold"/>
            </a:endParaRPr>
          </a:p>
        </p:txBody>
      </p:sp>
      <p:sp>
        <p:nvSpPr>
          <p:cNvPr id="97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advertent </a:t>
            </a:r>
            <a:r>
              <a:rPr b="1" lang="en-US" sz="2200" spc="-1" strike="noStrike">
                <a:solidFill>
                  <a:srgbClr val="1a1a1a"/>
                </a:solidFill>
                <a:latin typeface="Open Sans"/>
              </a:rPr>
              <a:t>intravenous</a:t>
            </a:r>
            <a:r>
              <a:rPr b="0" lang="en-US" sz="2200" spc="-1" strike="noStrike">
                <a:solidFill>
                  <a:srgbClr val="1a1a1a"/>
                </a:solidFill>
                <a:latin typeface="Open Sans"/>
              </a:rPr>
              <a:t> administration of LA drug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verdose if the following limits are exc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plain – 4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with adrenaline – 7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pivacaine – 2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 Drugs (Miscellaneous category) </a:t>
            </a:r>
            <a:endParaRPr b="0" lang="en-US" sz="3200" spc="-1" strike="noStrike">
              <a:solidFill>
                <a:srgbClr val="333333"/>
              </a:solidFill>
              <a:latin typeface="Open Sans Semibold"/>
            </a:endParaRPr>
          </a:p>
        </p:txBody>
      </p:sp>
      <p:sp>
        <p:nvSpPr>
          <p:cNvPr id="9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Steroids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xamethasone , Predniso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xamethasone </a:t>
            </a:r>
            <a:endParaRPr b="0" lang="en-US" sz="3200" spc="-1" strike="noStrike">
              <a:solidFill>
                <a:srgbClr val="333333"/>
              </a:solidFill>
              <a:latin typeface="Open Sans Semibold"/>
            </a:endParaRPr>
          </a:p>
        </p:txBody>
      </p:sp>
      <p:sp>
        <p:nvSpPr>
          <p:cNvPr id="97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potent synthetic member of the glucocorticoid </a:t>
            </a:r>
            <a:br>
              <a:rPr sz="2200"/>
            </a:br>
            <a:r>
              <a:rPr b="0" lang="en-US" sz="2200" spc="-1" strike="noStrike">
                <a:solidFill>
                  <a:srgbClr val="1a1a1a"/>
                </a:solidFill>
                <a:latin typeface="Open Sans"/>
              </a:rPr>
              <a:t>class of steroid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acts as anti-inflammator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munosuppre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taken orally and is more potent than the naturally occurring hormone ‘cortis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d to reduce pain and inflammation 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n-pharmacological treatments</a:t>
            </a:r>
            <a:endParaRPr b="0" lang="en-US" sz="3200" spc="-1" strike="noStrike">
              <a:solidFill>
                <a:srgbClr val="333333"/>
              </a:solidFill>
              <a:latin typeface="Open Sans Semibold"/>
            </a:endParaRPr>
          </a:p>
        </p:txBody>
      </p:sp>
      <p:sp>
        <p:nvSpPr>
          <p:cNvPr id="9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a:t>
            </a:r>
            <a:r>
              <a:rPr b="1" lang="en-US" sz="2200" spc="-1" strike="noStrike">
                <a:solidFill>
                  <a:srgbClr val="1a1a1a"/>
                </a:solidFill>
                <a:latin typeface="Open Sans"/>
              </a:rPr>
              <a:t>physical</a:t>
            </a:r>
            <a:r>
              <a:rPr b="0" lang="en-US" sz="2200" spc="-1" strike="noStrike">
                <a:solidFill>
                  <a:srgbClr val="1a1a1a"/>
                </a:solidFill>
                <a:latin typeface="Open Sans"/>
              </a:rPr>
              <a:t> and </a:t>
            </a:r>
            <a:r>
              <a:rPr b="1" lang="en-US" sz="2200" spc="-1" strike="noStrike">
                <a:solidFill>
                  <a:srgbClr val="1a1a1a"/>
                </a:solidFill>
                <a:latin typeface="Open Sans"/>
              </a:rPr>
              <a:t>psychological factors </a:t>
            </a:r>
            <a:r>
              <a:rPr b="0" lang="en-US" sz="2200" spc="-1" strike="noStrike">
                <a:solidFill>
                  <a:srgbClr val="1a1a1a"/>
                </a:solidFill>
                <a:latin typeface="Open Sans"/>
              </a:rPr>
              <a:t>affect our perception of pain. Treatments inclu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t, Ice (cold), Compression, Elevation of injuri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urgery  (e.g. draining an abscess / fixing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upuncture, massage, physio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ltrasound 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anscutaneous electrical nerve stimulation (TE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ychological treatments</a:t>
            </a:r>
            <a:endParaRPr b="0" lang="en-US" sz="3200" spc="-1" strike="noStrike">
              <a:solidFill>
                <a:srgbClr val="333333"/>
              </a:solidFill>
              <a:latin typeface="Open Sans Semibold"/>
            </a:endParaRPr>
          </a:p>
        </p:txBody>
      </p:sp>
      <p:sp>
        <p:nvSpPr>
          <p:cNvPr id="9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dequate expla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assurance that their pain will be add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unsel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particularly important when dealing with patients with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Behavioural Therapy (CBT) – for chronic </a:t>
            </a:r>
            <a:br>
              <a:rPr sz="2200"/>
            </a:br>
            <a:r>
              <a:rPr b="0" lang="en-US" sz="2200" spc="-1" strike="noStrike">
                <a:solidFill>
                  <a:srgbClr val="1a1a1a"/>
                </a:solidFill>
                <a:latin typeface="Open Sans"/>
              </a:rPr>
              <a:t>non-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clusion – </a:t>
            </a:r>
            <a:br>
              <a:rPr sz="3200"/>
            </a:br>
            <a:r>
              <a:rPr b="0" lang="en-US" sz="3200" spc="-1" strike="noStrike">
                <a:solidFill>
                  <a:srgbClr val="333333"/>
                </a:solidFill>
                <a:latin typeface="Open Sans Semibold"/>
              </a:rPr>
              <a:t>Adequate control of pain requires:</a:t>
            </a:r>
            <a:endParaRPr b="0" lang="en-US" sz="3200" spc="-1" strike="noStrike">
              <a:solidFill>
                <a:srgbClr val="333333"/>
              </a:solidFill>
              <a:latin typeface="Open Sans Semibold"/>
            </a:endParaRPr>
          </a:p>
        </p:txBody>
      </p:sp>
      <p:sp>
        <p:nvSpPr>
          <p:cNvPr id="982" name=""/>
          <p:cNvSpPr txBox="1"/>
          <p:nvPr/>
        </p:nvSpPr>
        <p:spPr>
          <a:xfrm>
            <a:off x="380880" y="1676520"/>
            <a:ext cx="836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the mechanism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ciceptive or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of the drugs that help to control i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kinetics (Absorption and time to onset and peak action and eli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 profil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84" name="PlaceHolder 2"/>
          <p:cNvSpPr>
            <a:spLocks noGrp="1"/>
          </p:cNvSpPr>
          <p:nvPr>
            <p:ph/>
          </p:nvPr>
        </p:nvSpPr>
        <p:spPr>
          <a:xfrm>
            <a:off x="914400" y="1447920"/>
            <a:ext cx="7586640" cy="1203120"/>
          </a:xfrm>
          <a:prstGeom prst="rect">
            <a:avLst/>
          </a:prstGeom>
          <a:noFill/>
          <a:ln w="0">
            <a:noFill/>
          </a:ln>
        </p:spPr>
        <p:txBody>
          <a:bodyPr lIns="0" rIns="0" tIns="0" bIns="0" anchor="t">
            <a:normAutofit fontScale="59000"/>
          </a:bodyPr>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Ramani Vijayan, M.D. </a:t>
            </a:r>
            <a:endParaRPr b="0" lang="en-US" sz="32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Kuala Lumpur, Malaysia</a:t>
            </a:r>
            <a:endParaRPr b="0" lang="en-US" sz="2400" spc="-1" strike="noStrike">
              <a:solidFill>
                <a:srgbClr val="1a1a1a"/>
              </a:solidFill>
              <a:latin typeface="Open Sans"/>
            </a:endParaRPr>
          </a:p>
          <a:p>
            <a:pPr marL="1054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Text Box 8"/>
          <p:cNvSpPr/>
          <p:nvPr/>
        </p:nvSpPr>
        <p:spPr>
          <a:xfrm>
            <a:off x="45720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86"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87" name=""/>
          <p:cNvGraphicFramePr/>
          <p:nvPr/>
        </p:nvGraphicFramePr>
        <p:xfrm>
          <a:off x="457200" y="1447920"/>
          <a:ext cx="8153280" cy="4867200"/>
        </p:xfrm>
        <a:graphic>
          <a:graphicData uri="http://schemas.openxmlformats.org/drawingml/2006/table">
            <a:tbl>
              <a:tblPr/>
              <a:tblGrid>
                <a:gridCol w="4513320"/>
                <a:gridCol w="363996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89" name="Picture 6" descr=""/>
          <p:cNvPicPr/>
          <p:nvPr/>
        </p:nvPicPr>
        <p:blipFill>
          <a:blip r:embed="rId1"/>
          <a:stretch/>
        </p:blipFill>
        <p:spPr>
          <a:xfrm>
            <a:off x="762120" y="3048120"/>
            <a:ext cx="7954920" cy="3325680"/>
          </a:xfrm>
          <a:prstGeom prst="rect">
            <a:avLst/>
          </a:prstGeom>
          <a:ln w="0">
            <a:noFill/>
          </a:ln>
        </p:spPr>
      </p:pic>
      <p:sp>
        <p:nvSpPr>
          <p:cNvPr id="990" name="Rectangle 5"/>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7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racetamol is well tolerated and has no side effects at therapeutic dose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has good haematological tolerability and does not alter haemosta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ution</a:t>
            </a:r>
            <a:endParaRPr b="0" lang="en-US" sz="3200" spc="-1" strike="noStrike">
              <a:solidFill>
                <a:srgbClr val="333333"/>
              </a:solidFill>
              <a:latin typeface="Open Sans Semibold"/>
            </a:endParaRPr>
          </a:p>
        </p:txBody>
      </p:sp>
      <p:sp>
        <p:nvSpPr>
          <p:cNvPr id="7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nce it is metabolized in the liver it must be used with caution / or omitted in the presence of liver impair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patients with renal impairment, the dose of paracetamol should be reduc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Do not exceed 4g/day in adults and 125 mg/ kg in childr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0T04:21:05Z</dcterms:created>
  <dc:creator>UM2009</dc:creator>
  <dc:description/>
  <dc:language>en-US</dc:language>
  <cp:lastModifiedBy>ruth</cp:lastModifiedBy>
  <dcterms:modified xsi:type="dcterms:W3CDTF">2015-06-15T08:58:29Z</dcterms:modified>
  <cp:revision>171</cp:revision>
  <dc:subject/>
  <dc:title>Clinical Pharmacology</dc:title>
</cp:coreProperties>
</file>